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9FDB-9912-4C66-B023-725DAB677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DE87-66D7-46AE-AADB-4D637C2B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4D87-AB37-4CC9-A909-2CFC4EA39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35BE-C796-4298-B7EA-835384E84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5380-BE3F-4A30-9302-459708E47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18C4-9792-4F8D-BB17-48259BAC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F3557-113B-4119-8CC8-04CD098B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5D4A2-1157-4058-805F-9FED1630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01DA7-A600-427E-909B-5CFC43D0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18F7-24DA-4DDB-AA33-2B05ABD0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6177-6672-40EF-8D2C-C28C8803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D9C0-9177-4F6F-8872-B56FBDAE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E65D-7E72-41FA-B20E-77B364D6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A105-78E8-40FD-AF52-F794290C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23E8-4DE2-449D-ACB9-4B48AC37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4E91-6AC7-46DB-87AB-4C34768CE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3FED-FD02-495A-AD66-92315FF12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5FE4-CF25-4E66-A7FA-6A237289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289B-F0CB-4A18-BBF6-8053CD48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B66A-6CF7-4BF7-A1FD-3438B794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0EED-D5E8-42AE-9B8B-0B3C5F58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2ABC-4EA3-49F8-B350-763F8135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EB6F-A371-473E-BEE5-CB32E065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183C-9642-48E4-8480-EF04AA1F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E4AA-5AA6-4E09-984D-7CAA58004E0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A770-E71C-4FF6-B7E9-0644188708A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řizpůsobení řídících systémů řady CNC872 konkrétní aplikac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jekt, instalace, PLC, přizpůsobení uživatelského rozhraní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kn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Nakonfigurovaná okna lze použít v rámci rozvržení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Konfigurace v registru: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…\UserInterface\Windows\I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ID – identifikátor, pomocí tohoto ID se na dialog odkazuje (zejména při konfiguraci rozvržení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kn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Společné prvky konfigurace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Library: knihovna implementující požadované okn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Type: typ okna, viz výčet typů implementovaných v dané knihovně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Name: jméno okna, pomocí něj lze vyhledat při volbě indikace (lze lokalizovat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Category: kategorie oken, kam se má zařadit (pro volbu indikace, lze lokalizovat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ozvržení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Konfigurace v registru: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…\UserInterface\Layouts\I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ID – identifikátor, pomocí tohoto ID se na rozvržení odkazuj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rvky konfigurace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Name: jméno rozvržení, pomocí něj lze vyhledat při volbě indikace (lze lokalizovat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Category: kategorie, kam se má zařadit (pro volbu indikace, lze lokalizovat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WindowsCount: počet ok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ozvržení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Konfigurace okna rozvržení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V podklíči WindowN, kde N je index okna (0 až WindowsCount – 1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DefaultWindow: ID okna, které se defaultně použije na daném místě rozvržení, lze změnit volbou indika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Left, Right, Top, Bottom: umístění okna v rámci obdélníku rozvržení, zadává se v %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„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TML okna“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WinCNC používá celou řadu oken, jejichž vzhled je řízen pomocí HTML, všechna mají společný základ =&gt; část možností je společná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ro potřeby WinCNC je HTML doplněno o další atribu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WinCNC do takových oken umí vkládat prvky, které jsou asynchronně („rychle“) překreslovány: tzv. „Async Indicator Painter“, „AIP“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„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TML okna“ – společné prvk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Stylopis“ dle konfigurace (použití konfigurovatelného souboru s kaskádovými styly):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&lt;LINK ID="SkinStyleSheet" rel="stylesheet" type="text/css" href="DefaultSkin.css"&gt;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soubor, na který odkazuje href, je za běhu změněn podle konfigurace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„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TML okna“ – společné prvk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Určení velikosti dialogu: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&lt;DIV id="DialogBackground"&gt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Libovolný element s ID DialogBackgroun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Musí být v elementu BOD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Všechny viditelné elementy musí být v tomto element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„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TML okna“ – společné prvk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Tlačítk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Každý typ okna připouští určitou sadu tlačítek (element BUTTON, popř. DIV), která používá, musí mít zadán požadovaný id (dle okna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Každé tlačítko může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Zadat příkaz pro WinCNC, PLC, RT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Zobrazit dialo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Změnit rozvržení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„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TML okna“ – společné prvk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Tlačítk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Volba rozvržení – ID rozvržení se uvede do atributu LayoutI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Zobrazení dialogu – ID dialogu se uvede do atributu DialogI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říkazy – atributy CncCommand, PlcCommand a RtmComman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„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TML okna“ – společné prvk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Lokalizace: tabulka řetězců</a:t>
            </a:r>
            <a:br>
              <a:rPr sz="25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DIV id="StringTableCSY" class="StringTable"&gt;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SPAN id="IDS_WindowTitle"&gt;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Parametry řezání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/SPAN&gt;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SPAN id="IDS_CuttingAreaTitle"&gt;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Řezá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/SPAN&g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/DIV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Tabulka musí být pro každý jazyk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okud se nenalezne tabulka pro aktuální jazyk, ponechají se původní řetěz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řizpůsobení aplikac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řizpůsobení řídícího systému konkrétní aplikaci neznamená pouze tvorbu PLC!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Je potřeba řešit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PL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Uživatelské rozhraní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Konfigurac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Technologi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Tvorba pevných cyklů a makrocyklů, dialogy pro jejich použití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„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TML okna“ – společné prvk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okalizace: použití řetězce z tabulky</a:t>
            </a:r>
            <a:br>
              <a:rPr sz="29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IV LocStrID="IDS_WindowTitle"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utting paramet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DIV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Identifikátor řetězce (podle tabulky) musí být uvedena v atributu LocStrI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„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TML okna“ – společné prvk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Indikační prvky vkládané do HTM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Async Indicator Painter (AIP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Řešeno pomocí pluginů =&gt; s využitím známeho rozhraní lze naprogramovat libovolný způsob zobrazování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oužití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Číselné zobrazení hodnot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Grafické zobrazení hodnot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Indikační „LED“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„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TML okna“ – společné prvk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Vložení AIP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AIP se vkládá přes HTML ele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Zadání pomocí dodatečných atributů:</a:t>
            </a:r>
            <a:br>
              <a:rPr sz="25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&lt;DIV CNCType="AsyncIndicatorPainter„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   AIPLibrary="StdPlugins„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   AIPType="Axis„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   AIPOptions="Channel:0; Axis:0;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      ValType:Pos0; NumberPrecision:3; "&gt;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  123.12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&lt;/DIV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„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TML okna“ – společné prvk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Simple event generator“ – umožňuje volání skriptu z HTML stránk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Vložení pomocí HTML elementu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Zadání pomocí dodatečných atributů</a:t>
            </a:r>
            <a:br>
              <a:rPr sz="2100"/>
            </a:br>
            <a:r>
              <a:rPr b="0" lang="cs-CZ" sz="2100" spc="-1" strike="noStrike">
                <a:solidFill>
                  <a:srgbClr val="000000"/>
                </a:solidFill>
                <a:latin typeface="Courier New"/>
              </a:rPr>
              <a:t>&lt;OBJECT VIEWASTEXT style="visibility:hidden;" CNCType="SimpleEventGenerator" SEGLibrary="StdPlugins" SEGType="PlcVarWatcher" SEGOptions="Variable: CurOp;"   SEGFunction="OnCurOpChanged"&gt;&lt;/OBJECT&gt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„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TML okna“ – společné prvk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Simple event generator“ – skript</a:t>
            </a:r>
            <a:br>
              <a:rPr sz="29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SCRIPT&gt;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function OnCurOpChanged(EventVal, EventOpt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// EventVal - nová hodnota proměnné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// EventOp  - zde nevyužito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„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TML okna“ – společné prvk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Simple event generator“ – typ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lcSAWatcher – hlídání hodnoty ve sdílené pamět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lcVarWatcher – hlídání hodnoty přímo sdílené proměnné definované v PLC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RtmVarWatcher – hlídání hodnoty přímo sdílené proměnné definované v modulu reálného času (RTM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Dialogové zadání programu – „Tvary“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Vytváření NC programu na základě parametrů zadaných uživatelem do dialog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Obsah vygenerovaného programu je dán HTML souborem a parametry zadanými uživatele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Umožňuje obrábění vybraných programu bez ručního NC programování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Okno typu „MacroDialog“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ialogové zadání program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Generuje NC program ve tvaru:</a:t>
            </a:r>
            <a:br>
              <a:rPr sz="2900"/>
            </a:br>
            <a:r>
              <a:rPr b="0" i="1" lang="cs-CZ" sz="2900" spc="-1" strike="noStrike">
                <a:solidFill>
                  <a:srgbClr val="000000"/>
                </a:solidFill>
                <a:latin typeface="Courier New"/>
              </a:rPr>
              <a:t>InitText</a:t>
            </a:r>
            <a:br>
              <a:rPr sz="2900"/>
            </a:br>
            <a:r>
              <a:rPr b="1" lang="cs-CZ" sz="29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Courier New"/>
              </a:rPr>
              <a:t>Param1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i="1" lang="cs-CZ" sz="2900" spc="-1" strike="noStrike">
                <a:solidFill>
                  <a:srgbClr val="000000"/>
                </a:solidFill>
                <a:latin typeface="Courier New"/>
              </a:rPr>
              <a:t>Hodnota1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i="1" lang="cs-CZ" sz="2900" spc="-1" strike="noStrike">
                <a:solidFill>
                  <a:srgbClr val="000000"/>
                </a:solidFill>
                <a:latin typeface="Courier New"/>
              </a:rPr>
              <a:t>Param2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i="1" lang="cs-CZ" sz="2900" spc="-1" strike="noStrike">
                <a:solidFill>
                  <a:srgbClr val="000000"/>
                </a:solidFill>
                <a:latin typeface="Courier New"/>
              </a:rPr>
              <a:t>Hodnota2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i="1" lang="cs-CZ" sz="2900" spc="-1" strike="noStrike">
                <a:solidFill>
                  <a:srgbClr val="000000"/>
                </a:solidFill>
                <a:latin typeface="Courier New"/>
              </a:rPr>
              <a:t>BlockText</a:t>
            </a:r>
            <a:br>
              <a:rPr sz="2900"/>
            </a:br>
            <a:r>
              <a:rPr b="0" i="1" lang="cs-CZ" sz="2900" spc="-1" strike="noStrike">
                <a:solidFill>
                  <a:srgbClr val="000000"/>
                </a:solidFill>
                <a:latin typeface="Courier New"/>
              </a:rPr>
              <a:t>FinalText</a:t>
            </a:r>
            <a:br>
              <a:rPr sz="2900"/>
            </a:br>
            <a:r>
              <a:rPr b="1" lang="cs-CZ" sz="2900" spc="-1" strike="noStrike">
                <a:solidFill>
                  <a:srgbClr val="000000"/>
                </a:solidFill>
                <a:latin typeface="Courier New"/>
              </a:rPr>
              <a:t>N ENDPROGRAM</a:t>
            </a:r>
            <a:br>
              <a:rPr sz="2900"/>
            </a:br>
            <a:r>
              <a:rPr b="0" i="1" lang="cs-CZ" sz="2900" spc="-1" strike="noStrike">
                <a:solidFill>
                  <a:srgbClr val="000000"/>
                </a:solidFill>
                <a:latin typeface="Courier New"/>
              </a:rPr>
              <a:t>FileEndTex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ialogové zadání program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Co obsahuje řídící HTML soubor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Element BODY může obsahovat další atributy, jejichž text se přímo vloží do generovaného NC programu: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InitText, BlockText, FinalText, FileEndTex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ialogové zadání program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Co obsahuje řídící HTML soubor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Elementy INPUT s atributem StorageNam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StorageName – jméno parametru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Value – hodnota, která se zapíše do parametru (mění uživate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InitialValue – výchozí hodnota, přepisuje minule zadanou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DDXOptions – volby pro převod čísel (MinVal, MaxVal, NumberPrecision, …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jek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Základem pro přizpůsobení je projekt WinTechnol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Obsahuje vše, co je potřeba přidat ke standardní instalaci WinCN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Výsledkem překladu projektu je instalátor, který automatizuje proces instalace a upgrad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Instalace a odinstalac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Výsledkem překladu projektu je instalátor, který automatizuje proces instalace a upgrad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K vytváření instalátoru se používá „Nullsoft Scriptable Install Systém“ (NSI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Volně ke stažení na adrese: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http://nsis.sourceforge.ne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stalac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Kopíruje na řídící systém všechny potřebné soubo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ytváří konfiguraci v registr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ůže na řídící systém kopírovat výchozí verze některých uživatelských souborů (kopírují se pouze v případě, že na systému ještě neexistují – případný upgrade je tudíž neovlivní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Odinstalac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Musí odstranit všechny soubory z CNC Machine Fi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Musí odstranit konfiguraci z registru (nemusí řešit projekt WinTechnolu – automaticky se maže celý klíč ...Machine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Instalace a odinstalace pomocí NSI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Co je třeba uděl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Do projektu WinTechnolu přidat klíčová slova (karta Make.knf):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Setup = NSIS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PathNSIS = C:\Progra~1\NSIS\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Do projektu přidat soubor PLC.nsi, který obsahuje předpis pro tu část instalace a odinstalace, která je závislá na projekt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Instalaca a odinstalace pomocí NSI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LC.nsi musí obsahovat funkce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InstallPlcFiles – kopírování souborů projektu na řídící systé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un.InstallPlcFiles – odebrání souborů při odinstalac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InstallPlcConfig – vytvoření konfigurace v registru Window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Un. InstallPlcConfig – odstranění konfigurace z registru Windows (může být prázdné, pokud se konfigurace zapisuje pouze do klíče HKLM\SOFTWARE\MEFI\WinCNC\Machin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oftware pro správu verzí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Zjednodušuje proces archivace zdrojových kódů projekt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Umožňuje snadné dohledání stavu softwru k určitému dat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Umožňuje spolupráci více osob na jednom projekt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oftware pro správu verzí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MEFI používá software založený na projektu „Subversion“ („SVN“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Nabízí dostatečnou funkcionalitu a spolehlivos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Možnost volby z několika nadstaveb (uživatelských rozhraní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Doporučujeme „TortoiseSVN“ (volně ke stažení z http://tortoisesvn.tigris.org/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V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Svá data si ukládá do databáze (Repository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Do Repository neukládá celé soubory, ale pouze informace o změná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racuje se soubory – není zde přímá vazba na projek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racovní kopie – sada souborů, se kterými pracuji na svém počítač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V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Repository umístěná lokálně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Nelze použít pokud má spolupracovat více osob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Nevyžaduje síťové připojení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Jednodušší vytvoření a konfigura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Repository umístěná na server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Nutné, pokud má na projektu pracovat více osob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Vyžaduje síťové připojení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TortoiseSV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Klient SVN, který se integruje do prostředí Průzkumníka ve Window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Grafické zobrazení stavu verzovaných souborů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Jednotlivé operace se spouští přímo z prostředí průzkumník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č projekt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še na jednom místě =&gt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nadné zálohování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možňuje „správu verzí“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utomatizace procesu přizpůsobení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akovatelnost procesu přizpůsobení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možňuje „opravu na dálku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TortoiseSVN – základní operac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Checkou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Vytvoření pracovní kopi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Stáhne“ příslušné soubory z Repository pro zadanou (zpravidla poslední) reviz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TortoiseSVN – základní operac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Commi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Odevzdání změn do Repositor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Nejprve lokálně vyhledá provedené změny, které následně přenese do Repositor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Není nutno používat vždy pro všechny verzované soubory najedno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Vytvoří novou revizi (i v případě použití pro jediny soubor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TortoiseSVN – základní operac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Získání změn z Repository – aktualizace pracovní kopie podle změn ze zvolené (zpravidla poslední) reviz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Zachovává mnou provedené změny v pracovní kopi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okud moje pracovní kopie obsahuje změny na stejném místě, jako daná revize, dochází ke konfliktu. Konflikt je třeba řešit „ručně“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TortoiseSVN - použití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Co je třeba uděl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Zařídit verzování projekt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Do projektu WinTechnolu přidat klíčové slovo (karta Make.knf):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MakeRevInfo = MakeRevInfo.ba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Do projektu WinTechnolu přidat soubor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MakeRevInfo.bat – vytváří soubory PlcRevInfo.nsh a PlcRevInfo.as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PlcRevInfoSrc.nsh, PlcRevInfoSrc.as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oučásti projekt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Zdrojové soubory PLC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Definici PLC konstant a PLC chyb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Konfiguraci řídícího systém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rioritní blok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Tabulk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evné cykly, makrocykly, …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Soubory pro přizpůsobení uživatelského rozhraní (HTML, softwarové menu, …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Skript pro vytvoření instalátor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dikátor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44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Konfigurace v registru: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…\UserInterface\Indicators\Top\ID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…\UserInterface\Indicators\Left\ID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…\UserInterface\Indicators\Right\ID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ourier New"/>
              </a:rPr>
              <a:t>…\UserInterface\Indicators\Bottom\I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ID – identifikátor indikátoru, musí být jednoznačný pro danou stran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Jako indikátor lze použít jakékoliv „okno“ (plugin typu „Window Wrapper“), obdobně jako v rozvržení či dialog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dikátor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Společné položky konfigurace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Library: knihovna implementující požadovaný indikátor („okno“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Type: typ indikátoru („okna“), viz výčet typů implementovaných v dané knihovně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Left, Right, Top, Bottom: umístění indikátoru v rámci plochy obdélníku vyhrazeného pro indikátory na dané straně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ialog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Konfigurace v registru: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…\UserInterface\Dialogs\I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ID – identifikátor dialogu, pomocí tohoto ID se na dialog odkazuj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V dialogu lze použít jakékoliv „okno“ (plugin typu „Window Wrapper“), obdobně jako v rozvržení nebo indikátor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ialog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Společné prvky konfigurace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Library: knihovna implementující požadovaný dialog („okno“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Type: typ dialogu („okna“), viz výčet typů implementovaných v dané knihovně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Width, Height: Rozměry dialogu. U oken založených na HTML lze nastavit pomocí HTML souboru. Pokud se nezadá, dialog se roztáhne přes celou plochu rozvržení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DontInherit: ignorovat nastavení z instalační, popř. také strojní sekce konfigura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06:49Z</dcterms:created>
  <dc:creator>Jiří Hoffmann</dc:creator>
  <dc:description/>
  <dc:language>en-US</dc:language>
  <cp:lastModifiedBy>Jiří Hoffmann</cp:lastModifiedBy>
  <dcterms:modified xsi:type="dcterms:W3CDTF">2009-12-08T12:46:56Z</dcterms:modified>
  <cp:revision>44</cp:revision>
  <dc:subject/>
  <dc:title>Snímek 1</dc:title>
</cp:coreProperties>
</file>