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5C802-40E6-4D8F-89D8-E2A7FB2CE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6D74D-E381-422F-8B85-46293F0DB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7C1B6-FC9D-4EA4-864D-DE7D987D9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AB497-E0C8-4443-8EFD-799F20229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3421D-050D-4071-B09E-66E6606E8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B4A6C-F032-4711-AEA3-15AA16431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59390-C97A-47C8-839F-611ED1C6B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C6228-D1EA-4937-8E94-27B24C0B3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7B6E6-DC27-491E-81DE-C611868EB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5F3A9-6563-45C0-AAC0-705DF402F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CCA1D-CD07-494A-807C-C11A3E83A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81399-9A4D-4E7F-912F-6DD825ADA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AD1D1-768C-4D68-BDE3-96F625F00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D78AD-F387-402C-A70E-9655316F5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176B1-16F1-4665-AA8E-91D07BEE8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465D9-BF7E-42A8-BEFE-132549AB5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74C59-EA46-4C8B-B3CE-25D5483D7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39211-EC18-41AC-BD55-6C4124969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44F11-4A92-4A90-96D5-AAA94CD2A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BAC57-78BC-415B-A523-04CDC1E0F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36A05-BAEF-4B2E-9E1B-66EEADDB2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54309-F076-4212-8118-7762FDC20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E9BCC-AFDA-492D-83A2-137AF5318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812EA-CAF8-4377-82EC-CD50A6B8B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10CDF-3441-4A6D-9866-D48215736AF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DBC17-CA15-4515-99D5-B32A96D4211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6666"/>
                </a:solidFill>
                <a:latin typeface="Arial"/>
              </a:rPr>
              <a:t>Windows XP embedded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Vlastnosti, instalace, zálohování a obnova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6666"/>
                </a:solidFill>
                <a:latin typeface="Arial"/>
              </a:rPr>
              <a:t>Instalace WinCNC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258920" y="1628640"/>
            <a:ext cx="6202440" cy="4565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rvotní konfigurac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Rozlišení obrazovky, popř. další parametr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Konfigurace průzkumníka Window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Nastavení lokalizac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Kalibrace dotykového senzoru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Nastavit WinCNC jako „shell“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Zapnout EWF (Enhanced Write Filter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Vytvoření „tovární zálohy“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Tovární zálohu lze později použít k návratu do stavu „z továrny“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Při bootování zvolit položku „Backup and Recovery“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Automaticky se spustí „MEFI CNC Setup and Recovery Wizard“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Vytváření zálohy se spustí tlačítkem „Factory backup“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Záloha softwaru řídícího systému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Záloha se vytváří pro případ SW či HW poškození disku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Zálohu nelze použít pro instalaci!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Záloha disku nenahrazuje zálohu projektu PLC!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Zálohu nelze použít na jiném řídícím systému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Vždy vytvořit před předáním stroje!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Vytvoření zálohy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Při bootování zvolit položku „Backup and Recovery“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Automaticky se spustí „MEFI CNC Setup and Recovery Wizard“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Vytváření spustit tlačítkem backup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Je možné zálohovat systémový a/nebo datový oddí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Zálohu lze uložit na externí médium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Obnova ze zálohy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Obnoví systémový a/nebo datový oddíl do stavu v okamžiku vytváření záloh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racuje na diskové úrovni =&gt; přepíše celý systémový a/nebo datový oddí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Obnova ze zálohy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Při bootování zvolit položku „Backup and Recovery“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Automaticky se spustí „MEFI CNC Setup and Recovery Wizard“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Obnova se spustí tlačítkem „Restore from Backup“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Zvolit, co obnovovat (systém/data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Zvolit kde je záloha umístěna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6666"/>
                </a:solidFill>
                <a:latin typeface="Arial"/>
              </a:rPr>
              <a:t>Enhanced Write Filter (EWF)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Používá se pro systémový oddíl (C: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Ochrana před nežádoucími změnami obsahu disku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Princip: změny provedené na disku se poznamenávají do RAM jejíž obsah se při vypnutí ztratí (po dalším startu bude systémový oddíl v původním stavu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Neposkytuje dostatečnou ochranu proti výpadku napájení!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EWF - ovládání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EWF se zapíná po dokončení prvotní instalace softwaru příkazem</a:t>
            </a:r>
            <a:br>
              <a:rPr sz="2900"/>
            </a:br>
            <a:r>
              <a:rPr b="0" lang="cs-CZ" sz="2900" spc="-1" strike="noStrike">
                <a:solidFill>
                  <a:srgbClr val="000000"/>
                </a:solidFill>
                <a:latin typeface="Courier New"/>
              </a:rPr>
              <a:t>ewfmgr C: -enabl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Po změně systémové konfigurace, instalaci PLC či WinCNC apod. se musí změny uložit na disk příkazem</a:t>
            </a:r>
            <a:br>
              <a:rPr sz="2900"/>
            </a:br>
            <a:r>
              <a:rPr b="0" lang="cs-CZ" sz="2900" spc="-1" strike="noStrike">
                <a:solidFill>
                  <a:srgbClr val="000000"/>
                </a:solidFill>
                <a:latin typeface="Courier New"/>
              </a:rPr>
              <a:t>ewfmgr C: -commit</a:t>
            </a:r>
            <a:br>
              <a:rPr sz="2900"/>
            </a:b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(příkaz se provede při ukončování Windows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6666"/>
                </a:solidFill>
                <a:latin typeface="Arial"/>
              </a:rPr>
              <a:t>Windows XP embedded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Založeno na „kancelářské“ verzi Windows XP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Speciální Verze Windos XP určená pro zabudování do zařízení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Výrobce zařízení si může sestavit vlastní konfiguraci z existujících komponen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Jiný způsob licencování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6666"/>
                </a:solidFill>
                <a:latin typeface="Arial"/>
              </a:rPr>
              <a:t>Proč Windows XP embedded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Vypuštění některých komponent = menší nároky na HW (místo na disku, pamě‘t, …) a odstranění nežádoucích funkcí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Snazší instalace a následná správa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Dobrá lokalizovatelnos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Jednotné chování všech systémů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Cena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Rozdělení disku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468360" y="1773360"/>
          <a:ext cx="8280360" cy="426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73360"/>
                    <a:ext cx="8280360" cy="426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Instalace softwaru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26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Příprava disku, instalace Windows XP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26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Instalace driverů a aplikací, instalace WinCNC, prvotní konfigurac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26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„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Tovární záloha“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6666"/>
                </a:solidFill>
                <a:latin typeface="Arial"/>
              </a:rPr>
              <a:t>Příprava disku, instalace Win XP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Nabootovat z instalačního CD či USB flash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Automaticky se spustí „MEFI CNC Setup and Recovery Wizard“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Instalace se spustí tlačítkem „Setup / Full recovery“ (pozor, chvilku trvá!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Vyjmout instalační médium a restartovat tlačítkem „Restart“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6666"/>
                </a:solidFill>
                <a:latin typeface="Arial"/>
              </a:rPr>
              <a:t>Setup and Recovery Wizard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116000" y="1557360"/>
            <a:ext cx="6481800" cy="4865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Instalace driverů a aplikací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Instaluje se to, co není standardní součástí připraveného obrazu, tedy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Drivery pro Touch Screen popř. VGA kartu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Drivery pro volitelná zařízení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Internet Explorer 7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Další aplikace na přání zákazníka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6666"/>
                </a:solidFill>
                <a:latin typeface="Arial"/>
              </a:rPr>
              <a:t>Instalace WinCNC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Spustit instalační program (WinCNCSetup_n_n_nnn.exe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Důležité volby jsou v posledním dialogu před spuštěním vlastní instalac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Zapsat heslo do registru:</a:t>
            </a:r>
            <a:br>
              <a:rPr sz="2900"/>
            </a:br>
            <a:r>
              <a:rPr b="0" lang="cs-CZ" sz="1900" spc="-1" strike="noStrike">
                <a:solidFill>
                  <a:srgbClr val="000000"/>
                </a:solidFill>
                <a:latin typeface="Verdana"/>
              </a:rPr>
              <a:t>položka „Password0“ typu REG_SZ v klíči „HKEY_LOCAL_MACHINE\SOFTWARE\MEFI\WinCNC\Persistent\Channels\Channel0\Passwords“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Nainstalovat PLC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6:06:49Z</dcterms:created>
  <dc:creator>Jiří Hoffmann</dc:creator>
  <dc:description/>
  <dc:language>en-US</dc:language>
  <cp:lastModifiedBy>Jiří Hoffmann</cp:lastModifiedBy>
  <dcterms:modified xsi:type="dcterms:W3CDTF">2008-06-08T20:20:36Z</dcterms:modified>
  <cp:revision>9</cp:revision>
  <dc:subject/>
  <dc:title>Snímek 1</dc:title>
</cp:coreProperties>
</file>