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07C-3660-4004-8FE8-720F88C8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218-DCD1-4E3D-970D-77FB749E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ED4-120A-478A-BA6A-D55807FC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D5F-7133-4BC5-9475-175D56B2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F467-5DAF-4558-A1AC-BE546CF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574-91DA-4DEC-BBA1-585E1C4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54C5-6E00-409D-89F0-EF71925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52A6-3CC6-4320-ACED-CE288898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47C1-C7EB-4B8D-A042-77132B5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1EE2-8C06-4690-BCB5-678119EA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596-96D6-41BA-85A8-5596DE4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599-6BE2-44CB-9EE0-F4B7C711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8AA3-23BF-4040-A4DC-5575071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A85-725F-4A8E-B7EA-82F0A07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439-1E3D-414E-B9FB-7C01136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067-857B-46E0-A027-9C36E251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E3A-07B8-403A-A6F2-09B58443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24C-761C-4E13-9146-05F6105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6A0-5A98-4E3B-A3D2-2DEF69AC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5E1-452C-4C8F-9867-A3147849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5B5-67F3-45EB-A58F-38915248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EA6-6351-47ED-9E73-53AC014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268-737E-43A7-BA6B-7F7796E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170-4D2E-42FE-A36E-C4CFA54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977-BD9B-4D3B-BF35-A3CE739A4C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9609-F70D-4483-AC04-620F2C2ED8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Řídící systémy řady CNC87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lastnosti, principy, zákla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73120" y="2421000"/>
          <a:ext cx="694224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421000"/>
                    <a:ext cx="694224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á 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ecná lineární transformace v prostoru (pro geometrické os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á pro využití program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y použit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nožení/natočení dílčího tva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místění dílčího tvaru (posunutí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 polotovar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ecná lineární transformace v prostoru (pro geometrické os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á pro „ustavení polotovaru“: program je napsaný „pro polotovar“, posunutí/natočení polotovaru řeší transformace polotova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Délková korekce / 5-osá transform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orekce délky ná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e bez naklápění nástroje – „obyčejná“ délková korek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riguje délku nástroje pouze v jeho základní polo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e s naklápěním nástroje –      5-osá transforma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riguje délku nástroje v závislosti na jeho natoče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unutí 1,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 všechny interní os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čeno pro posunutí daná konstrukcí stro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klady použit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va pracovní prostory (současně se obrábí a připravuje další polotova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íce držáků ná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íce trysek či hořák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místě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bory se ukládají do tří slože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živatelské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ojn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talační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i hledání souboru (podle jména) se systém „dívá odshora“ a „bere to co první uvidí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šechny tři složky používají identickou strukturu podadresář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ytváří a mění uživatel, případně výrobce stro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Obvyklé umístění: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Courier New"/>
              </a:rPr>
              <a:t>D:\CNC User Fi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misťují se se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Uživatelské soubory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C programy, tabulky upravované uživatelem, uživatelská nastavení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oubory specifické pro stroj (konkrétní kus!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figurace specifická pro daný kus (SLS, uspořádání stroje, 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lineární korek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ojní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áří výrobce stro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bvyklé umístění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C:\CNC Machine Fi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misťují se sem soubory, které přizpůsobují řídící systém dané aplikaci (typu stroje), např.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lečná konfigu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LC, definice PLC chyb a konsta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ubory makrocyklů a pevných cykl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ubory pro přizpůsobení uživatelského rozhra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alační“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tváří firma MEF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vyklé umístění:</a:t>
            </a: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Courier New"/>
              </a:rPr>
              <a:t>C:\Program Files\MEFI\WinC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Umisťuje se 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lastní kód softwaru řídícího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chozí soubory uživatelského rozhra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chozí konfigura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onfigurace řídícího systému se ukládá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 registru Window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 vyhrazených souborů, které zpravidla využívají X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sy a servosmyč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chronní / a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figur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Konfigurace je v registru Windows rozdělena obdobně, jako soubory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Uživatelská“ část HKCU\Software\MEFI\WinCN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trojní“ část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HKLM\Software\MEFI\WinCNC\Mach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stalační“ část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HKLM\Software\MEFI\WinCNC\Inst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avíc sekce „Persistent“, kam se ukládají informace, které se neodstraní ani při odinstalaci softwa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kaliz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oftware řídícího systému umožňuje snadnou lokalizaci do libovolného jazyka (zatím čeština, angličtina, polština, němčina a ruština další dle potřeb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Jazyk se volí při intalaci, ale je možné ho změnit i dodatečn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žadavky na lokalizaci je potřeba zohlednit i při přizpůsobování stroje pro konkrétní aplika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ráva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ráva chyb je řešena jednotným způsob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abezpečuje protokolování a zobrazování informací o chybách obslu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šechny chyby se oznamují „správci chyb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právce chyb“ předává inforamce o chybách dál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o protokol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zobrazení chybového dialog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ráva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797120"/>
          <a:ext cx="741672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97120"/>
                    <a:ext cx="741672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Chyby lze rozlišovat na základě různých kritéri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ůležitost“ (kritická chyba, chyba, upozornění, …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ba trvání (jednorázové / trválé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ritické 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jejich výskytu nemůže řídící systém pokračovat v činnosti (nutno odstranit příčinu a restartovat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odstranění příčiny je možné pokračov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pozorně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ři stupně „důležitosti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1 – nejdůležitějš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n3 – nejméně důleži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á se v případech, které nutně nemusí, ale za určitých okolností mohou znamenat chybu, nebo mohou k chybě vé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„důležitosti“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ují obsluhu o nějaké skuteč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dál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vykle se nezobrazují, ale pouze zaznamenávají do protoko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užívají se k záznamu dění v řídícím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nadňují následné vyhodnocování vzniklých problém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doby trv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rázové“ chyb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yby, u kterých lze detekovat pouze jejich vzni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ul, ve kterém k chybě došlo, chybu oznámí (prostřednictvím správce chyb), ale neexistuje zde žádná zpětná vazba o předání informace o chybě uživatel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lenění chyb dle doby trvá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valé“ chyb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yby, u kterých lze detekovat jak jejich vznik, tak jejich odezně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formace o chybě je obvykle zobrazována po celou dobu trvání chy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ul, ve kterém k chybě došlo, oznamuje jak vznik chyby, tak její odezně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ěkteré trvalé chyby je možné „kvitovat“ – skryje zobrazené hlášení a volitelně oznámí kvitování chyby modulu, který ji oznám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 trvalé chyby: „Nízký tlak vzduchu“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le hodnot, které lze nastavovat a číst z NC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vají se při přípravě program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ři z nich jsou vždy označeny jako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gramování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ystémovými parametry Ax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Adresy dle konfigurace (syntaxe IS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střednictvím geometrických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značování a identifikace chy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2000" y="2565360"/>
          <a:ext cx="763272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76327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středek pro komunikaci mezi „panelem“ a moduly reálného času jednotlivých suport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us paměti“, kam lze přistupov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NC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mocí prvků uživatelského rozhraní (zobrazování, editac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istují prostředky pro práci se sdílenou pamětí a synchronizaci přístup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82720" y="2489040"/>
          <a:ext cx="648648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489040"/>
                    <a:ext cx="64864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dílená paměť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do sdílené paměti se děje na základě ofse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tlivé buňky je potřeba nějak pojmenovat =&gt; „PLC konstant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C konstanty mohou být generovány „automaticky“ – snadný způsob přidělování sdílené pamě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římo sdílené proměnn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uje RTM nebo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ce obsahu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dkaz na proměnn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 proměnn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zsah (může být i proměn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áze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řístup na základě jmé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rčeny k „volnému“ použi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ze definovat jejich struktu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 PLC tabulkám lze přistupova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PL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NC program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 uživatelského rozhraní (zobrazování hodnoty z PLC tabulky, editace tabulk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říklady použití: tabulka nástrojů, tabulka řezných parametrů, převodní charakteristika zadaná tabulkou, 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 současnosti až 10 tabulek současně, každá z nich může mít jinou strukturu a být použita k jinému úče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ta tabulky se načítají z XML souboru, lze načíst kdykoli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ém zabezpečuje ukládání provedených změ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ktura 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bovolný počet řádků, řádky lze přidávat na konec a z konce odebír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čet sloupců je určen v definici struktu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aždý sloupec může mít definován textový identifikátor – umožňuje přidávat/odebírat sloupce bez nutnosti změny kód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ktura PLC tabul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989000"/>
          <a:ext cx="7777080" cy="22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7770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87280" y="1628640"/>
          <a:ext cx="698508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98508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C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 NC osami pracuje modul reálného čas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hou být připojeny k interním osám – z toho se odvodí jejich chování (geometrické / synchronní / asynchronní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hou být řízeny z P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nadno přizpůsobitelné konkrétní aplika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řízení vzhledu se používají soubory ve formátu 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peciální požadavky lze řešit pomocí plug-inů, pro něž existuje otevřené rozhra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živatelské rozhra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90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kát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misťují se po okrajích plochy, které zbude po umístění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mění se „volbou indikace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sou viditelné i při zobrazení dialog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mohou být řízeny pomocí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vrž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kna rozvržení se umisťují na plochu, která zbude po umístění softwarového menu a indikátor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ze měnit volbou indik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kna rozvržení mohou být částečně či zcela zakryta dia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Každé okno rozvržení může mít vlastní podmenu softwarového me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olní softwaro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ahuje všeobecné příkazy pro řídící systé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ednotlivé příkazy nemohou mít vazbu na okna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kturu lze upravit pomocí XML souborů s definovaným obsa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avé softwarové 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7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sahuje příkazy s vazbou na jednotlivá okna rozvrže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způsobitelnost záleží na oknech, pro která je urče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dmenu pro jednotlivá okna jsou přístupná pomocí tlačítek označených symbolem umístění okn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08720" y="2349360"/>
            <a:ext cx="1441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metrické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ři osy, které v daném okamžiku definují pros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aná rychlost platí pro výsledný pohyb určený geometrickými osam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Lze přepínat z NC progra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rogramování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ystémovými parametry AxGX, AxGY a AxGZ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dresy dle konfigurace (syntaxe IS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metrické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ýznam geometrických 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dnoduché“ stroje – pevné přiřazení konfigurací: pouze definují pros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 „složitějších“ strojů lze přepínat podle momentálního uspořádání obráběn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ynchronní / asynchronní o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C osy, které momentálně nejsou geometrick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hyb začíná a končí současně s pohybem geometrických 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ynchronizace probíhá podle polo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ynchron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hyb startuje zpravidla PL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edou „svojí“ rychlost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sta programovaných hodno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144440"/>
          <a:ext cx="8099280" cy="59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44440"/>
                    <a:ext cx="80992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orm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gramová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ransformace polotovar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élková korekce / pětiosá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sunutí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trojní transform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Hoffmann</cp:lastModifiedBy>
  <dcterms:modified xsi:type="dcterms:W3CDTF">2009-12-06T20:57:56Z</dcterms:modified>
  <cp:revision>29</cp:revision>
  <dc:subject/>
  <dc:title>Snímek 1</dc:title>
</cp:coreProperties>
</file>