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AD5-EC7B-4943-913C-C5F8891C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632-23F6-4F81-8172-8FEE64B4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6C8-C286-4F46-B2B3-B80ACD36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1D1-5B06-4B50-9CC5-55C413A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1224-B70C-4B92-8715-718227FD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BFD-92B2-4879-ADBE-AA6506B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600-80AC-4658-AB21-18AB7B5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3F1-305D-42B8-8263-74C47392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00E-FA70-4B18-A327-5E4866A6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F28-E972-4450-8705-0904EA5E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E0B2-5774-4914-80FE-32AAEF4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74E-9E05-4E25-99B0-FBC391C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E06-6E31-479A-8130-DBC1888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37A-B2A6-4FD1-9A72-1584FE6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F165-C257-4BEB-9F9B-2A5AD447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AC3-7BFB-448C-A876-ABA856D0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F8AA-C6DD-42AF-8B4A-6B0F0149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E00-917E-4EE4-B2F7-9A07A25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FBA-86DC-4A56-92EA-37FBA7D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97E-638D-4543-9399-7F01335B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C31-AF18-4335-B260-C8E0579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61C-60E8-4848-9CDA-F4330B6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A96-BF41-4A83-8C0C-55B03C6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C3C-0A80-46C7-BCBD-CEFDC1D5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D36-8418-4A84-A402-4D6C380B22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DD7-4BF6-4F71-98FC-5951675C28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4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vorba uživatelských tvarů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2637000"/>
            <a:ext cx="770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vorba uživatelského tvaru vychází ze  standardních cyklů, které jsou součástí systému a zachovává i podobnou grafickou struktur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živatel požaduje vlastní, specielní cyklus, který se využije jen u jednoho konkrétního stro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hradí komfortněji parametrický partprogram, kde by obsluha musela ručně editovala parame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pis do registrů v PLC.N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7993080" cy="28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HtmlFile" "UserMacro.html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Library" "WinCNC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SoftMenuFile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WndMacroDialogMacro.SoftMenu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WriteRegSt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KLM "Software\MEFI\WinCNC\Machine\UserInterface\Dialogs\UserMacro" "Type"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MacroDialog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941720"/>
            <a:ext cx="7885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pis musí být na jedné řád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ní řádek v registraci říká, že  Dialog se jmenuje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rMacr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spouští html stránk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erMacro.htm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Další řádky udávají o jakou se jedná knihovnu, že se jedná o softwarové tlačítko a o jaký typ dialogu se 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Jak je to v registru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488360" cy="29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68360" y="5229360"/>
            <a:ext cx="820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vní zápis odkazuje na HTML soubor UserMacro.html, který je umístěn ve složce CNC Machine Files\HTML. V příkazu se uvádí se pouze relativní cesta, vztahující se k adresáři HTML. Pokud chceme vytvořené html soubory a různé obrázky umístit do podadresáře v adresáři HTML, musíme tento podadresář vytvořit a nahrát do něj potřebné soubory (v PLC.N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TML soub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844640"/>
            <a:ext cx="756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773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alog UserMacro je popsán HTML stránkou „UserMacro.html“. Zobrazí  dialog podle obrázku: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933720"/>
            <a:ext cx="77040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ále je v HTML souboru odkaz, jaká HTML stránka se zobrazí, pokud se „dotkneme“ menu tlačítka Opracování obruč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ref="OpracovaniObruce.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nto odkaz zobrazí  HTML stránku OpracovaniObruce.html, což je dialog pro zadání potřebných parametr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959280" cy="10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84360" y="2708280"/>
            <a:ext cx="40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 HTML souboru je určeno, jaký obrázek se zobrazí jako velké „menu tlačítko“. V našem případě je to obrázek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„OpracovaniObruce.gif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a má velikost 160 x 120 pix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pracovaniObruce.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5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pracovaniObruce.htm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&lt;BO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PutHtmlFile="TRUE" NCPFile="Macro\Obruc1.ncp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NCDirectory="DIR_USER SUBDIR_NCP" BlockText=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CALLMACRO(NoMacro_Obruc)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213000"/>
            <a:ext cx="777744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utHtmlFile="TRU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RUE znamená, že ve vytvořeném NCP souboru se jako komentář uvede, jaký html soubor tento NCP program vytváří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CPFile="Macro\Obruc1.ncp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de je uveden název souboru, který se automaticky vytvoří po zadání parametrů uživatelského tvaru v Dialogu a potvrzení tlačítkem OK. V našem případě se vytvoří soubor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ruc1.ncp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a bude vytvořen v podadresáři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cro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 Adresář Macro je pak podadresářem adresář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NCDirectory="DIR_USER SUBDIR_NCP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de je uvedeno, že výše zmíněný soubor Obruc1.ncp v adresáři Macro bude vytvořen v uživatelské části, t.j. v adreáři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NC User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BlockText=" CALLMACRO(NoMacro_Obruc)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ento  parametr udává rozvoj textu, který se uloží do výše zmíněného souboru Obruc1.nc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ce programu obecně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313760" cy="28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itTex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am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dnota1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am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dnota2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…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BlockText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nalTex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 ENDPROGRAM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leEnd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581360"/>
            <a:ext cx="8064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našem rozvoji jsem nepoužili parametr InitText. Kdybychom ho použili, a napsali 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itText = "%10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ložilo by se do souboru Obruc1.ncp na začátek ještě %100. Podobně lze použít FinalText a FileEnd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generovaný pro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LKA_L=1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LKA_H=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UMER_D=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ACKY=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YCHLOST=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"HtmlFile" "C:\CNC\MachineFiles\Html\OpracovaniObruce.htm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ALLMACRO(NoMacro_Obru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 END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plnění paramet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628640"/>
            <a:ext cx="86425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DIV id="Param_R0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SPAN id="Param_R00_Lbl"  class="LabelMedium" &gt;L&lt;/SPA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INPUT id="Param_R00_Val" class="EditMedium"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orageName="DELKA_L" type="text" value="11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umberCheck="NumberType: Real;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60640"/>
            <a:ext cx="83520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– identifikátor parametru, určuje umístění v okně, viz stejnojmenný identifikátor v části definice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YL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_Lbl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 umístění názvu parametru, zde písmeno „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d="Param_R00_Val"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 umístění  okénka pro zadání hodno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e, kam se má zadaná hodnota uložit a pod jakým názv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určují předpis pro typ písma, barvu atd a jsou definované v souboru CSS styl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orageName=“Delka_L“.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Název parametru, který se „vytvoří“ v souboru Obruc1.ncp a kterému se přiřadí do hodnota, která se zadá do okénka. Dále je zde určeno, že se jedná o zadání reálného čísla (NumberCheck), zadávané údaje do okénka jsou typu text a prvotní hodnota, která se naplní je 1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krocykl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313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 BEGIN(NoMacro_OBRUC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" Volba nástroje a otáče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00 M3 Tool(2,40) SpindleSpeed = Otacky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10 G00 G90 G23 Z20                  " Bezpečná výška v Z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20 Tool(2,42) EQDOFFS = 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-1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30 Z10                              " 10 mm před materiálem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40 G01 Feed = Rychlost "G95" G94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+4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Z = 2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50 G01      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X = (PRUMER_D/2) AxGZ = -2    " Sražení 2x45 stupňů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60 AxGZ = -(DELKA_H + 3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70 G11 RoundR = 1                   " Zaoblení 1 m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80 G01 AxGX = ((PRUMER_D/2) - 10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AxGZ = -DELKA_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390 G91 X-20  Z3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400 G90 G00 G40 Z20                  " Z do bezpečné vzdálenosti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410 M5                               " STOP vřete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Courier New"/>
              </a:rPr>
              <a:t>N E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084640"/>
            <a:ext cx="78487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makrocyklu jsou použité parametry PRUMER_D,  DELKA_H,   RYCHLOST,  OTACKY, které jsme zadali v dialog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zvy těchto parametrů jsou definované v hlavičkovém souboru OBRUC.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lavičkový soub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ázvy parametrů jsou definované v hlavičkovém souboru OBRUC.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924280"/>
            <a:ext cx="66978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*** Parametry a makra pro tvar OBRUC1.NC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#MAC(MACRO_OBRUC.N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NoMacro_OBRU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DELKA_L        R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DELKA_H        R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PRUMER_D       R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PRIDAVEK_P     R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RYCHLOST       R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$OTACKY         R1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9480" y="6251400"/>
            <a:ext cx="70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to hlavičkový soubor je automaticky připojen k partprogramu, který vytvořil dial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Jak začí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446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yjdeme z požadavku vytvořit program, který by obráběl obruč kola na karuselu.  Pro jednoduchost uvedeme jen část programu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84800" y="1700280"/>
            <a:ext cx="341640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511920" y="3860640"/>
            <a:ext cx="42897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0  R10=500  „Poloměr obru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11=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„Délka 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00  G01 G95 M3 S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10  XR10=550  F0.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120  ZR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ak hlavičku připojit k partprogramu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3141360"/>
            <a:ext cx="7777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${registry::Write} "HKLM\Software\MEFI\WinCNC\Machine\Channels\Channel0\PartProg""AdditionalInlFiles" "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ruc.nch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$\n" "REG_MULTI_SZ"$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320480" y="1643040"/>
            <a:ext cx="37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pis do souboruPLC.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2205000"/>
            <a:ext cx="7129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/oname=Include\Obruc.nch"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..\Include\Obruc.nc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"$INSTDIR\Include\Obruc.nc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ýsledek dialog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91472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75000"/>
            <a:ext cx="4248000" cy="31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č uživatelské tv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1640" y="1827000"/>
            <a:ext cx="73515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partprogramy bychom změnily R10 a R11 a bylo by hotovo. U několika málo parametrů by to bylo možné, častěji je však třeba nastavit více parametrů – využijeme pevné tva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ho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hledné zadávání parametrů podle okótovaného obráz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změnit jen některé parametry, ostatní se „pamatují“ z předešlého zadán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úschovy všech parametrů pod libovolným názvem a následně je kdykoli vyvolat a použít bez toho, aby se musely znovu všechny zadá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ožnost zkontrolovat zadávané hodnoty na povolený rozsah, čímž se sníží riziko zadání chybné hodnot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stup tvorb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844640"/>
            <a:ext cx="799308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áme hotový parametricky zadávaný partprogram, který řeší náš případ. Partprogram si můžeme odladit a odzkoušet, aby byl správný. Následně jej přepíšeme do tvaru jako makrocyklus – to je jednoduch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PROGRA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END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krocykl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BEGIN(číslo mak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še ostatní zůstane stej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Ovládaní softwarovám tlačítk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oft. tlačítkem vyvoláme dialog, kde se zadají parametr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ygeneruje partprogram, který zavolá námi vytvořený makrocyklus a předá mu parametry, které,které jsme zadali do okének dialog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 stisku tlačítka START se partprogram odjede.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edpokládá se možnost vytvoření samostatného softwarového tlačítk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ialog bude vytvářet tvůrce PLC, t.j. veškeré nově vytvořené  soubory (*.HTML, *.NCP, *.MAC atd.)  budou přidané do adresáře  CNC Machine Files, resp. jeho podadresář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šechny přidané soubory musí být začleněny do projektu PLC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ytvoření nového softwarového tlačítka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 systému je k dispozici tlačítk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Tvar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vé softwarové tlačítko  přidáme za toto tlačítku a nazveme ho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Uživatelské tvar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500280"/>
            <a:ext cx="8064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lačítko se v našem příkladu „přidá“ do souboru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an.Softmen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kud existují jazykové lokalizace, existují ještě i soubory, kde je za „Man“ přidána tříznakové rozlišení jazykové verze. Např. soubor nazvaný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je česká verze,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ManENU.Softmenu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je anglická verze atd. V tom případě je vhodné nové tlačítko přidat do všech souborů.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97360"/>
            <a:ext cx="7993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hledem k tomu, že soubor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je k dispozici pouze v instalačních adresářích systému, t.j. v adresář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:\Program Files\MEFI\WinCNC\Soft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usí se (při instalaci PLC)  zkopírovat do adreář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:\CNC Machine Files\Soft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753160" cy="47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C.NS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844640"/>
            <a:ext cx="824400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kopírování souboru ManCSY.Softmenu při instalaci PLC se zajistí v souboru PLC.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části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unction InstallPlcFile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přidáme řádek (celý  příkaz musí být v jednom řádku!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"/oname=SoftMenu\ManCSY.SoftMenu" "..\SoftMenu\ManCSY.SoftMenu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zhledem k tomu, že se musí zajistit i odinstalování PLC, přidá se do téhož souboru v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unction unInstallPlcFile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ještě tento řád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elete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"$INSTDIR\SoftMenu\ManCSY.SoftMenu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Úprava SoftMen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1640" y="1827000"/>
            <a:ext cx="735156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 souboru </a:t>
            </a: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ManCSY.SoftMenu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, který jsme přidali do projektu PLC provedeme úpravu přidání nového tlačítk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oto je standardní tlačítko Tvar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Text&gt;Tvary&lt;/Tex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Dialog&gt;Macro&lt;/Dialog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/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oto přidám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Text&gt;Uživatelské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Br/&gt;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tvary&lt;/Text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Dialog&gt;UserMacro&lt;/Dialog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&lt;/SoftMenuItem&g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gistrace tlačít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827000"/>
            <a:ext cx="8388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dáním čtyř řádků vytvoříme předpoklad pro vznik nového tlačítka s nápisem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Uživatelské tvary“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alog nazvem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serMacro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by tlačítko bylo skutečně funkční, je potřeba ještě dialog UserMacro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aregistrova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by se neprovedla registrace, tlačítko by se sice zobrazilo, ale nijak by nereagova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gistrace se provádí zápisem do registrů Windows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10T14:30:25Z</dcterms:modified>
  <cp:revision>51</cp:revision>
  <dc:subject/>
  <dc:title>Snímek 1</dc:title>
</cp:coreProperties>
</file>