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0AD-EDB9-4A7B-A6CC-EF8C3645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815-8ECF-458F-93A6-0E431BDD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7C0-C5CC-4383-8C8E-CAEE16CD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814-A90D-45D3-8C7C-A892A4F0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9DE1-E5B1-415A-9052-25731C95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E2A5-84FB-4634-B186-A2E199B2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7C22-9CCC-4BBD-B1E5-5C6266D0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97C7-9F98-42AE-B958-7D56FEED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5975-9755-4FDA-A9E6-EFBB66A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3F79-A05F-444C-A12C-3EFDBD99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0D9E-2FC2-4375-BECA-A9B9E5BC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F6F-88E4-4630-9AA7-C3DF0E0F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78EB-372D-4CB0-BBBF-234C441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7776-99B8-4FCC-BD76-F13E8FF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16B0-A80E-4B76-A01D-2E7B6813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6E24-4914-4C0B-BD7D-630D8490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F517-CEFA-4CE4-936B-679098AB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0D6-4D5C-4DC1-8AC7-1F3BAB2F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019-139C-4BCE-BFA3-06A8BCC7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EC1-6256-4E7D-822E-F8700700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6BA-A450-4C14-A172-C4CD22E0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6ED-F343-4A7B-AF28-5AC974CA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79D-D578-474B-83AF-67D59568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A72-CA87-4495-BD27-4D6F6D5E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4F0E-90B0-40FA-827E-E8077C050C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35F7-9C2A-4395-969B-2BC9FF2B3F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239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66"/>
                </a:solidFill>
                <a:latin typeface="Arial"/>
              </a:rPr>
              <a:t>Instalace WinCNC - BIO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2755800"/>
            <a:ext cx="755964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by systém, resp. počítač nabootoval z USB flash disku, musí se v BIOSu nastavit priorita bootování z hard dis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Advanced BIOS Fea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Hard Disk Boot Prior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SB-HDD0:USB FLASH DRIVE P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.j. jako první nastavit USB flash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First Boot Device: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Setu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292640"/>
            <a:ext cx="83923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edinstalační prostředí Windows PE je nov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 instalaci, diagnostiku, řešení problém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álohování. Zjednodušený Operační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Windows PE nahrazuje bývalou systémovou disk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ní to plnohodnotná náhrada operačního systé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499140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239840" y="170028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pustit intalac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3024000" cy="14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900000" y="335772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371628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einstallation Environmen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ardwarové prostřed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6720" y="184464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obrazí se se seznam hardwarových  konfigurací (typy používaných základních desek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2924280"/>
            <a:ext cx="3529080" cy="236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798800" y="2997360"/>
            <a:ext cx="42883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de popisovaná instalace je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ákladní desku COMMELL LS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tvrdíme 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obíhá instalace WINDOWS 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Embedded a dalších kompon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ůběh instalace  trvá několik min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 monitoruje se na obrazov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06000" y="5460840"/>
            <a:ext cx="52711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Úspěšná instalace – zobrazí s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***** Setup / Full recovery finished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tvrdíme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tart nebo rovnou obno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773360"/>
            <a:ext cx="6932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lavní nabídka Wizar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yjmeme USB Flash disk (při obnově z USB disku 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estart systém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nova systém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653000"/>
            <a:ext cx="835344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i plnohodnotné instalaci po restartu stiskem tlačítka DEL je třeba dostat se do BIOSU a upravit pořadí bootová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 restartu automaticky proběhnou potřebné  instalace zařízení, driverů, sítě atd., což trvá několik  minut a poté se systém automaticky restartu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3573360"/>
            <a:ext cx="822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kud máme uživatelskou (případně tovární) zálohu – není třeba pokračovat v instalaci restartem, ale v menu se zvolí rovnou obnova – po ukončení obnovy je systém připraven k činnosti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3240000" cy="2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51280" y="2924280"/>
            <a:ext cx="3240000" cy="28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onec instala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38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vní „ruční“ zásah je třeba, když se objeví ok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elect Netware Log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9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79480" y="430848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2089080" cy="188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3276720" y="2565360"/>
            <a:ext cx="27050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c se nenastavuje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uze potvrdit 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00720" y="3429000"/>
            <a:ext cx="4248000" cy="31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743040" y="5243400"/>
            <a:ext cx="28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končení insta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805360"/>
            <a:ext cx="4211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známka k motherboardu Commell LS57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 naběhnutí úvodní obrazovky je potřeba před dalším nastavením znovu restartovat  počíta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věrečná nastav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827000"/>
            <a:ext cx="770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 restartu nastavit monit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avé tlačítko myši na ploš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Graphics Option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Output T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Monit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avé tlačítko myši na ploš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Propertie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&gt; Záložka Settings-&gt; Nastavit rozlišení 1024x76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vést kalibraci monitor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kalizace a regionální nastavení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(Česky, Anglick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tvit WinCNC jako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ktivovat Enhanced Write Filter : ewfmgr c:  -enab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ainstalovat systém – buď setupem nebo ze záloh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06:49Z</dcterms:created>
  <dc:creator>Jiří Hoffmann</dc:creator>
  <dc:description/>
  <dc:language>en-US</dc:language>
  <cp:lastModifiedBy>Jiří Ekrt</cp:lastModifiedBy>
  <dcterms:modified xsi:type="dcterms:W3CDTF">2009-12-10T11:33:41Z</dcterms:modified>
  <cp:revision>43</cp:revision>
  <dc:subject/>
  <dc:title>Snímek 1</dc:title>
</cp:coreProperties>
</file>