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900-0A59-4C5C-A2E7-0E088396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72C-343D-43C7-AEE9-182AB87F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17B-A9AF-486C-AD9C-512E7495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FB0-1397-4117-BA13-76D6EB78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8F90-66C6-4C51-8E66-AD86DBE2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F3C7-AD25-4382-9B1A-974383E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9034-BEA2-478F-B35F-2F982A6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A8A9-3AB4-458B-B959-CD046B4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9C61-9E84-42C6-94CC-DFCB6FF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47C8-6D87-4990-AA56-5C0BEA65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3A0-ACB1-4E77-9BFE-35437DE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3BE-DF94-49EC-B2F3-80D7F5D8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362-20E2-4072-B976-1987845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9020-7D86-47E9-B045-88E9429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66E2-31B0-461B-BFD5-ADA3C317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564-FCDE-4883-915B-D5278A3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9D0-F1E5-477C-BD43-B8A41683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390-5B8B-436F-A356-66994BD2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6E5-9986-4AFC-A9E3-586C9B7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442-6F37-46DE-81FE-335CDFF3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7C9-F496-4F7B-B9DC-37BE1AC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99C-9159-4CC7-AA05-FC24903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CFD-B450-45E1-80FA-4EB2D035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ECF-03E4-4201-B57B-5726EFA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5E63-C4D5-434E-817E-C54DE5455D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47E8-B11F-4409-B4AD-2773DD6FBD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vorba pevných tvarů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daní nového tvaru a úprav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áce se záložkami, tlačítky, obrázk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zálož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prava styl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#Tab0, #Tab1,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#Tab2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position: absolute;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#Tab2Top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position: absolute; top: 50;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left: 230;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width: 10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eight: 28; background-color: #CAD4E0; border: gray solid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border-bottom-width: 0px; border-left-width: 2px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border-right-width: 2px; border-top-width: 2px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text-align: center; cursor: defaul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2498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zálož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prava JavaScrip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unction ViewTab(strTabI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var oTab2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document.getElementById("Tab2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var oTab2Top  = document.getElementById("Tab2Top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if (strTabID != "Tab2")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oTab2.style.zIndex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"0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oTab2.style.visibility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"hidden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oTab2Top.style.zIndex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= "0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prava 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DIV id="Tab2Top" class="LabelMedium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LocStrID="</a:t>
            </a:r>
            <a:r>
              <a:rPr b="1" lang="cs-CZ" sz="1400" spc="-1" strike="noStrike">
                <a:solidFill>
                  <a:srgbClr val="0000ff"/>
                </a:solidFill>
                <a:latin typeface="Courier New"/>
              </a:rPr>
              <a:t>IDS_SelTab2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" onclick="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ViewTab('Tab2')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DIV id="Tab2"&gt;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parametru a obráz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ložit obráze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!-- Obrázek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PictureAreaSample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IMG id="Picture_Shape2" src="Sample1.png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1574640"/>
            <a:ext cx="4824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paramet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44640"/>
            <a:ext cx="7313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Vložit do HTML stránky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Tab2"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!-- Parametry tvaru --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sAreaSample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_R00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_R00_Lbl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  class="LabelMedium"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gt;L1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INPUT id="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Param_R00_Val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class="EditMedium"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ype="text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urier New"/>
              </a:rPr>
              <a:t>StorageName="MAC_ROUGH_SAMPLE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urier New"/>
              </a:rPr>
              <a:t>NumberCheck="NumberType: Real;"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AME="Param_R00_Val" value="1000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6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edání parametru z HTML do NC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StorageName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dává název proměnné v NCP programu, jejíž hodnota je naplněna z HTML dialog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Name="MAC_ROUGH_SAMP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umberCheck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zkontrolovat typ zadaného čísla (Real, Integer,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Check="NumberType: Real;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ředat hodnotu do NCP program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 hlavičkového souboru X.NCH stačí nadefinovat stejnojmennou proměnno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$MAC_ROUGH_SAMPLE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RPA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zšíření dialogu o množství paramet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3822840"/>
            <a:ext cx="3888000" cy="2919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5761080" cy="406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78520" y="382284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37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8097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unction DrillSelect(iSelectID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witch(iSelectID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ase 10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ivCycleVisibility('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SAMPLE1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,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ivCycleVisibility('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SAMPLE2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,0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ycleName =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ocument.getElementById(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'MAC_SELECT_SAMPLE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options[docume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getElementById('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MAC_SELECT_SAMPLE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'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selectedIndex].value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DivCycleVisibility(CycleName,1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 u="sng">
                <a:solidFill>
                  <a:srgbClr val="000000"/>
                </a:solidFill>
                <a:uFillTx/>
                <a:latin typeface="Verdana"/>
              </a:rPr>
              <a:t>Picture_Shape2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.src= CycleName + '.png';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break;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}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Úprava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kaliz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StringTableCSY" class="StringTabl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SPAN id="IDS_Sample1"&gt;Příklad 1&lt;/SPA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SPAN id="IDS_Sample2"&gt;Příklad 2&lt;/SPA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bsah jednotlivých nabíde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SAMPLE1_HIDDEN" style="visibility=hidden;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…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obsah stránky při zvolené volbě 1 pomocí rolovací nabíd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SAMPLE2_HIDDEN" style="visibility=hidden;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… </a:t>
            </a:r>
            <a:r>
              <a:rPr b="0" lang="cs-CZ" sz="1800" spc="-1" strike="noStrike">
                <a:solidFill>
                  <a:srgbClr val="0000ff"/>
                </a:solidFill>
                <a:latin typeface="Verdana"/>
              </a:rPr>
              <a:t>obsah stránky při zvolené volbě 2 pomocí rolovací nabíd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lovací nabíd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ýsledná podoba stránk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ah celé záložky se mění při volbě z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t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3586320"/>
            <a:ext cx="4105440" cy="308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3587760"/>
            <a:ext cx="41036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ožňuje natáčení, kopírování, zrcadelní,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2917800"/>
            <a:ext cx="5184720" cy="389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5640" y="3213000"/>
            <a:ext cx="1152360" cy="316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vné tv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nadnění prá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duché zadávání paramet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adné přizpůsobení aktuálním potřebá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ložení menu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evé menu (MenuCopy.htm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&lt;!-- Společné prvky (zrcadlení, natočení, měřítko, množení, ... ) --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DIV id="CommonArea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IFRAME src="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enuCopy.htm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rameborder="0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yle="POSITION:absolute; WIDTH:100%;HEIGHT:100%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IFRAM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dání dalšího prv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klad – množení bloků v ose 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3586320"/>
            <a:ext cx="4105440" cy="3084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859280" y="3587760"/>
            <a:ext cx="4103640" cy="3083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84720" y="537372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365720"/>
            <a:ext cx="93672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nového prvku do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8097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 MenuCopy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FORM id="MAC_COPY_Z_MENU_MAIN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INPUT class="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heckBox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torageName="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C_COPY_Z_MENU_COUNT_VI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nClick="MenuCopyVisibility(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'</a:t>
            </a:r>
            <a:r>
              <a:rPr b="1" lang="cs-CZ" sz="1400" spc="-1" strike="noStrike">
                <a:solidFill>
                  <a:srgbClr val="0000ff"/>
                </a:solidFill>
                <a:latin typeface="Verdana"/>
              </a:rPr>
              <a:t>MAC_COPY_Z_MENU_MAI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')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FORM id="</a:t>
            </a:r>
            <a:r>
              <a:rPr b="1" lang="cs-CZ" sz="1400" spc="-1" strike="noStrike">
                <a:solidFill>
                  <a:srgbClr val="0000ff"/>
                </a:solidFill>
                <a:latin typeface="Verdana"/>
              </a:rPr>
              <a:t>MAC_COPY_Z_MENU_MAIN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1" lang="cs-CZ" sz="1400" spc="-1" strike="noStrike">
                <a:solidFill>
                  <a:srgbClr val="ff0000"/>
                </a:solidFill>
                <a:latin typeface="Verdana"/>
              </a:rPr>
              <a:t>HIDDEN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" style="display=non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ABLE style="width=100%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R&gt;&lt;TD LocStrID="IDS_COUNTZ"&gt;Count in Z&lt;/T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D&gt;&lt;INPUT class="EditMedium"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orageName="MAC_COPY_COUNTZ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umberCheck="NumberType: Integer;" type="text"&gt;&lt;/TD&gt;&lt;/T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R&gt;&lt;TD LocStrID="IDS_DIFERENCEZ"&gt;Offset Z&lt;/TD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TD&gt;&lt;INPUT class="EditMedium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orageName="MAC_COPY_DIFERENCEZ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ype="text" value="130" style="WIDTH:40px"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umberCheck="NumberType: Real;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menu do NCP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954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ložit do NCP kopírování v ose 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BEGIN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C_COP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OPT(SUBOPT_RESTOREPTRANSFORM,1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 (EQ(MAC_COPY_Z_MENU_COUNT_VIS,1)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" Pokud je v menu zvoleno Množení bloků v ose 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LLMACRO(MAC_COPY_Z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(EQ(MAC_COPY_MENU_SCALE_VIS,1)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 Pokud je v menu zvoleno Měřítk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_COPY_SCALE = MAC_COPY_SCALE/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CALE(MAC_COPY_SCA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pírování v ose 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obrazení výsledného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BODY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onLoad="ViewTab('Tab0'); DrillSelect(); ChangePicture();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GCOLOR="lightgrey" PutHtmlFile="TRUE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CPFile="Macro\RoughVertical1.ncp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NCDirectory="DIR_USER SUBDIR_NCP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lockText=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AC_COPY_PART = MAC_ROUGH_VERTICAL1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CALLMACRO(MAC_COPY)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51280" y="4962600"/>
            <a:ext cx="51116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edvol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ložit do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&lt;DIV id="PreselectionsArea" innerHTMLFile="Preselections.html"&gt;&lt;/DIV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635280" y="2690640"/>
            <a:ext cx="5351400" cy="402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56360" y="2924280"/>
            <a:ext cx="2808360" cy="30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384720" cy="353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16360" y="3500280"/>
            <a:ext cx="647640" cy="649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3384720" cy="370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08000" y="407664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stup ze systé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kladní výběr pro konkrétní typ stroje (řezací stroj, fréza, soustruh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ze základní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1257480" cy="82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94160" y="3429000"/>
            <a:ext cx="1257480" cy="82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76720" y="378936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truktura souboru ht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827360"/>
            <a:ext cx="77407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lavič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ddefinování vzhledu dialog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avascript ovládání různých interaktivních prvk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sah strán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okalizace textů strán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zadí a nadpis strán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ata, tabul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polečné prvky (zrcadlení, natočení, množení, ..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ky specifické danému tvaru (záložky, obrázky, ..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dvol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kalizace textů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slušný jazyk rozlišuje hodnota identifikát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št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d="StringTableCSY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lšt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d="StringTablePLK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ngličtin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d="StringTableENU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!-- String tables --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IV id="StringTable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S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class="StringTabl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PAN id="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enu - Tvar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DIV id="StringTable</a:t>
            </a:r>
            <a:r>
              <a:rPr b="1" lang="cs-CZ" sz="1400" spc="-1" strike="noStrike">
                <a:solidFill>
                  <a:srgbClr val="ff0000"/>
                </a:solidFill>
                <a:latin typeface="Courier New"/>
              </a:rPr>
              <a:t>ENU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" class="StringTabl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PAN id="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enu - Shape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ourier New"/>
              </a:rPr>
              <a:t>&lt;!-- Titulek dialogu --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DIV class="WindowTitle" LocStrID="</a:t>
            </a:r>
            <a:r>
              <a:rPr b="1" lang="cs-CZ" sz="14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400" spc="-1" strike="noStrike">
                <a:solidFill>
                  <a:srgbClr val="ff0000"/>
                </a:solidFill>
                <a:latin typeface="Courier New"/>
              </a:rPr>
              <a:t>Menu - Sha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nového tlačít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esta k souboru Menu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Soustruh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\Html\Macro\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ath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\Menu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6720" y="2997360"/>
            <a:ext cx="5688000" cy="2844720"/>
            <a:chOff x="1836720" y="2997360"/>
            <a:chExt cx="5688000" cy="28447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836720" y="2997360"/>
              <a:ext cx="568800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573800" y="3610080"/>
              <a:ext cx="2376360" cy="180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dání nového tlačít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TABLE width="100%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TD align="center" style="width: 25%;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oughVertical1.html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Odkaz na HTML stránku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IMG src="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Thumb RoughVertical1.gif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Miniatur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SPAN LocStrID="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IDS_RoughVertical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Lokalizovan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Příčné hrubování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náze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03800" y="4389480"/>
            <a:ext cx="4589280" cy="2279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4797360"/>
            <a:ext cx="1800000" cy="1584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3357720"/>
            <a:ext cx="453708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2781360"/>
            <a:ext cx="36734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068640"/>
            <a:ext cx="45370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Úprava HTML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příkladu vycházíme z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oughHorizont1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odélné hrubová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ovou stránku pojmenujeme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RoughVertical1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Příčné hrubová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8000" y="3500280"/>
            <a:ext cx="4176720" cy="3135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4176720" cy="3137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Úprava HTML strán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dpis dialog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 Titulek dialogu --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V class="WindowTitle" LocStrID="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DS_WindowTit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gh Vertical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rázek v dialog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 Obrázek --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V id="PictureArea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MG id="Picture_Shape0" src=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ghVertical1.p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Lukáš</cp:lastModifiedBy>
  <dcterms:modified xsi:type="dcterms:W3CDTF">2009-12-08T06:21:48Z</dcterms:modified>
  <cp:revision>69</cp:revision>
  <dc:subject/>
  <dc:title>Snímek 1</dc:title>
</cp:coreProperties>
</file>