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87B-64B9-40B2-BDE6-4B334A60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DDF-FD81-44C4-9CC5-A1FC223C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159-D88D-49BC-AFD4-69186FAE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A54-AE29-4304-84C2-4D5F55F8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5509-09ED-479E-83B1-08C50A5B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64FF-354E-45E6-BE59-A943B08B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7443-06AE-472E-A9C2-75A36497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5F4C-12DF-411E-B37B-66FEE837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85F5-36C3-452E-87CA-7B48A91B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490-7297-4E19-993E-07D24BCD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0E54-06C0-4AA8-9C68-6422B926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F66-50E9-4607-8082-32B9B20D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C047-C047-4110-B4B1-35EC6203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B95B-19FF-49A7-A3A9-09B9E2A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D1DE-6B05-463A-BA0B-C8D3832B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EA75-55AC-431A-A46F-77266CC8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CBB7-D1D0-4CD1-9EDA-0F7CE8FB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7AB-D4F1-4189-8DA4-2C83BF1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174-AD9F-4F10-BC69-194EB931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8F4-047D-43F5-AC52-7C3B6E60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9F0-7567-43D7-A2A0-99F1BF2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C07-E4A2-488D-8F16-A8E5208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279-BCCC-4187-9AC3-91EE03A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185-9111-41E5-91C9-FDA12565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5CEF-4107-4080-AD23-20CC36BDB6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FBCE-2027-4F83-AF6F-A60F1937E4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239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Tvorba bootovaciho</a:t>
            </a:r>
            <a:br>
              <a:rPr sz="4000"/>
            </a:b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USB flash disku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4080" y="2781360"/>
            <a:ext cx="785592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e každému systému je dodáván Recovery CD 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en se může použít k prvotní instalaci systému, resp. operační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ystému Windows XP Embedded, který používá řídicí systé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užití CD ROM  vyžaduje mít k dispozici  CD ROM mechani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hodlnější je připravit si  z  CD  bootovací USB flash di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třebujeme USB flash disk o kapacitě asi 4G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musí být prázdný, data se později smaž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vorbu bootovacího flash disku  si můžeme provést v kli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jakémkoli počítači, t.j. i na systé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 BIOSU nastavíme  bootování z CD ROM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 nabootování jsou povolené ve Wizardu jen následující nabídky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382104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1 – příkazový řáde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pojíme USB Flash disk a z nabídky zvolí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jeví se příkazový řáde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X:\WINDOWS\SYSTEM32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adáme příkaz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X:\WINDOWS\SYSTEM3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&gt;diskp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ozn.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Diskpart - tímto nástrojem lze nastavovat  konfiguraci úložiště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znam příkazů pro Diskpart naleznete např. n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ttp://support.microsoft.com/kb/300415/c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019480" cy="48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1 – zjištění disk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773360"/>
            <a:ext cx="69325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bychom zjistili přehled všech připojených disků, zadáme pří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&gt; List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 okně CMD by se mělo objevit např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5754600" cy="28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6732720" y="4941720"/>
            <a:ext cx="24112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sk 0 = disk systém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sk 1 = první USB d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isk 2 = druhý USB d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1  - foku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 přípravu bootovacího disku  připojujeme  jeden USB flash dis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Select disk = 1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astaví „fokus“ t.j. určení cílového disku, se kterým budou prováděny všechny příkazy, které nyní zapíše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detail disk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19640" y="3935520"/>
            <a:ext cx="5329080" cy="26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879480" y="430848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37000"/>
            <a:ext cx="31669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ískání  podrobnějších  informací o  daném disku.  Hvězdičkou je  označen fokusovaný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rok 1 - Cle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560" y="1827360"/>
            <a:ext cx="770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a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&gt; Clean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íše se: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iskPart succeeded in cleaning the dis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ytvoříme na disku primární oddíl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a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&gt; create partition prima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íše 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DiskPart succeeded in creating the specified parti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rok 1 – Aktivní oblast a formátován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628640"/>
            <a:ext cx="73436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stavíme vytvořený svazek jako ak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íše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iskPart marked the current partition as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ormátování souborovým formátem NT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skpa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format fs=NTFS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bel=”Recovery” qu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píše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00 percent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skPart successfully formatted the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 2 – kopírování soubo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313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bootovací flash disk nyní zkopírujeme celý obsah  Recovery CD. Lze to provést na libovolném počítači s Windows XP např. Průzkumník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flash disku je nyní „vidět“ pouze adresář  System Volume Information, což je adresář, do kterého si Windows XP ukládají informace o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Bodech obnoven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nástrojem pro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Obnovení systém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 adresáře nejde nahlédnou ani jej smazat (museli bychom nastavit přístupová práva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rok2 – kopírování soubor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827000"/>
            <a:ext cx="74502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sah Recovery CD ROM obsahu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dresáře: BOOT, DRIVERSANDAPP, EFI,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oubory: boot.bmp, boot.ini, bottmgr, instalation.pdf, instalationenu.pdf, setupandrecoverywizard.exe, wincncasshell.re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značíme „vše“ a zkopírujeme na USB flash dis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pírování trvá několik min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SB flash disk je připraven k použití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Ekrt</cp:lastModifiedBy>
  <dcterms:modified xsi:type="dcterms:W3CDTF">2009-12-05T11:21:50Z</dcterms:modified>
  <cp:revision>33</cp:revision>
  <dc:subject/>
  <dc:title>Snímek 1</dc:title>
</cp:coreProperties>
</file>