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17AF-3D67-43CE-9452-1ABEB699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9665-CA9E-458E-A86D-04FD62F9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6218-B7DA-49ED-BE32-685B9722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CB8-9268-4F27-BCF3-2F69C5EE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744F-B6F7-487B-9B62-4B9BD869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736A-1811-4B63-A5A5-32A4CB8A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399D-CE02-431A-8277-60FB7656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39C9-5127-4AB6-A527-0AA97503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FC43-20F4-49A9-9624-7A2AE29B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A57D-C4D5-463C-A853-B79F937F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F92F-2C7A-45AD-9308-36194946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2AF-86EF-45EF-B6FC-0A399A2B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C988-078E-41B9-9825-10602BC4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AA8E-8F12-498B-9D12-0A317598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918B-5D62-40AD-A7FA-835D494F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201B-8E6D-4209-A4BD-565D44D1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E6F0-11AD-4FF8-ABB5-7507A292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99AF-662D-4F99-9C47-66ACAFAB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3521-C1C2-48BF-95EA-61D50E16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465-8F7D-4CB3-89CC-F111D01A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3A3-729B-4552-AAFB-6EAF6333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7A5-8E9B-4E27-BAF5-EA68CBAE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571-7B37-48AC-A3C0-7ADF5E5B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5D57-4757-4818-B754-A258D95C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637B-61A3-493C-A639-91469BC566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F1B2-552E-48B3-8BFF-3FFA943120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Zálohování systému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Rekonstrukce disku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880" y="3427200"/>
            <a:ext cx="73058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Uživatelská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záloha, zajistí snadný a rychlý návrat do stavu před havárií disku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Tovární záloha – pojistka pokud není uživatelská záloha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Instalace nového disku -  krajní příp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živatelská záloha – tlač. Backu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taz jakou část zálohovat ?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76360" y="2565360"/>
            <a:ext cx="414324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791680" y="2682720"/>
            <a:ext cx="32094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enom Systém (C: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b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enom Data (D: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b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ojí  - (nejčastěji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vrdíme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ůzkumník úložiště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536256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5343480" cy="3876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705000" y="2003400"/>
            <a:ext cx="261936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kno se objev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2x, pokud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aškrtli zálo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ystém i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ždy potvrdí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lač. „Open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padně změ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úložiš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nitorování záloh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5545080" cy="416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1621080" y="6021360"/>
            <a:ext cx="52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tvrzení vytvoření zálohy tlačítkem O.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opie na externí med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3134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 ukončení zálohy - před restartem je možné si  z příkazové řádky zálohy zkopírovat  na externí médium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8000" y="3429000"/>
            <a:ext cx="5015160" cy="50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971640" y="4221000"/>
            <a:ext cx="75610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kopírujeme např. všechny wim soubory na US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isk příkaz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copy *.wim f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edem si zkontrolujeme, zda skutečně  kopírujeme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právný disk, pokud máme připojeno více USB dis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opie na externí med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362640" cy="315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059480" y="5229360"/>
            <a:ext cx="6726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Záloha je hotová – restartujeme systé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bnova ze zálohy (uživatelská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735156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noví systémový a/nebo datový oddíl do stavu v okamžiku vytváření záloh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acuje na diskové úrovni =&gt; přepíše celý systémový a/nebo datový oddí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matovat na změny v datové části od doby vytvoření zálohy – budou rovněž přepsán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bnova ze zálohy (uživatelská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i bootování zvolit položku „Backup and Recovery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utomaticky se spustí „MEFI CNC Setup and Recovery Wizard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bnova se spustí tlačítkem „Restore from Backup“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0" y="4365720"/>
            <a:ext cx="3960720" cy="48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619280" y="5084640"/>
            <a:ext cx="3965400" cy="13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terou část obnovit a odku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259236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4284720" y="1700280"/>
            <a:ext cx="41734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volíme obnovu jen systé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bo datové části nebo ob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419640" y="2781360"/>
            <a:ext cx="5343480" cy="38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5520" y="4005360"/>
            <a:ext cx="32155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volíme, odk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e obnova prove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Implicitně se nabíz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Recovery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ůžeme změ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př. na USB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onec obnov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280" y="1773360"/>
            <a:ext cx="7313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oubor potvrdíme (tlačítko „Open“), začne proces obnovy části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 dokončení, v případě, že jsem zaškrtli i políčko „Data“, potvrdíme nabídnutý soubor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ackupData.wi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ačne proces obnovy části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bnova je monitorována - poslední výpi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***** Restore from Backup finished O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končení zálohy potvrdíme tlačítkem O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ozdělení disk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370160" y="1995480"/>
          <a:ext cx="7313400" cy="37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1995480"/>
                    <a:ext cx="731340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 je tovární a uživatelská záloha 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 hlediska vytváření 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„Tovární“ a „Uživatelské“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 zálohy mezi nimi není rozdíl. Obě obsahují systémovou a datovou část – obrazy disků (proto přípona wim, windows image) 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Systémová část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zálohy -  image disku C uložený do souboru (chráněný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Datová část zálohy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– image disku D uložený do souboru (nechráněný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dy se vytváří zálohy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ozdíl je pouze v 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době tvorby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dyž výrobce vytváří „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tovární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“ zálohu, nemá obvykle k dispozici PLC, nezná nastavení konfigurace pro konkrétní stroj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bvykle pouze instaluje typ stroje (Frézka, soustruh, řezací stroje)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Zálohuje stav v konečné fázi výroby systém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dy se vytváří zálohy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1916280"/>
            <a:ext cx="693252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živatelská záloha by se měla provést při  před předáním stroje zákazníko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vylučuje se udělat zálohu kdykoli později, např. při opravě PLC nebo konfigurace – vždy ale setupem P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áloha není náhrada za správný projekt PLC – vždy musíme být schopni přeložit a nainstalovat aktuální stav PLC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am se zálohy ukládají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Implicitně do kořenového adresáře chráněného disku „X“, volitelně ale můžeme uložit kamkoli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oporučuje se uložit zálohu do „recovery“ a poté si ji zkopírovat na externí mediu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ázvy souborů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FactoryDefaultsSystem.wi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FactoryDefaultsData.wi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BackupData.wi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BackupSystem.wi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ytvoření uživatelské zálohy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58920" y="1827360"/>
            <a:ext cx="6121440" cy="20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dmínkou je připojení PC klávesnice a případně myši k systému. Po zapnutí  systému se po dobu několika sekund objeví startovací nabídk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87280" y="5516640"/>
          <a:ext cx="6481800" cy="82836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ckup and Recovery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1258920" y="4149720"/>
            <a:ext cx="59515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Chose an operating system to st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Use the arrow keys  to highlight your choi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then press 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Setup and Recovery Wizar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480360" cy="48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volené a zakázané položk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volené položky jsou zvýrazněné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Z výroby MEFI je distribuován systém, který má udělanou „</a:t>
            </a:r>
            <a:r>
              <a:rPr b="1" lang="cs-CZ" sz="2500" spc="-1" strike="noStrike">
                <a:solidFill>
                  <a:srgbClr val="000000"/>
                </a:solidFill>
                <a:latin typeface="Verdana"/>
              </a:rPr>
              <a:t>tovární zálohu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“, t.j. položka „Factory backup“ není povolena – protože je již proveden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ení důvod provádět novou tovární zálohu (museli bychom smazat soubory FactoryDefaultsSystem.wim a  FactoryDefaultsData.wim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Uživatelská záloha je povolená vžd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06:49Z</dcterms:created>
  <dc:creator>Jiří Hoffmann</dc:creator>
  <dc:description/>
  <dc:language>en-US</dc:language>
  <cp:lastModifiedBy>Jiří Ekrt</cp:lastModifiedBy>
  <dcterms:modified xsi:type="dcterms:W3CDTF">2009-12-09T07:39:00Z</dcterms:modified>
  <cp:revision>29</cp:revision>
  <dc:subject/>
  <dc:title>Snímek 1</dc:title>
</cp:coreProperties>
</file>