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FAF-AFAB-448C-8D96-EAC10CF3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DA3-F259-405A-A841-B7B6A001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86E-FBC7-42CC-9EE0-94463304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EF6-756C-4433-A420-39FA2915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54C-B499-4904-8064-4D79B220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7F20-1273-4120-9D0A-3227AC5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493A-BDA0-410C-96EB-23EDDE1C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5C32-B2CD-4FFB-9AD0-A0AF8F02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5BFE-BC0B-48FF-BB60-64F0CD72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7E0E-965D-42DA-9E6E-64CD925C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97D-9894-413E-920C-BF9E6AA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0FC-5CE3-434E-9F38-372F12C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73E-E8C6-4EC6-A494-42403D4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179-14B2-488C-92CC-FE1741D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6CDE-85F1-4837-B5D8-1510CC7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8602-E86E-44D0-81CD-276B5E3B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0CFA-71C2-4DDD-84B7-FD8A3971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8B9-41AD-46D0-BFBF-21DEC9C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E61-51FA-4D60-AFEE-E761B22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5AF-66C6-406B-8562-AF3D9EAB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EA4-9B58-4D5C-BA89-A8E328D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FCD-22CC-4B2D-A991-E4C7984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FC0-3047-4B56-AE4A-9230684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D5C-D6AA-49BC-BCCE-2E8510B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6AE-16FD-44B3-BD84-D57FB8E6C7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683-7306-4DD3-BB7A-78722E818E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C programování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Úvod, nové vlastnosti, preprocesor, systémové parametry, fun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-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voj makra je možné rozdělit na více řádků – pokud se na konec řádku s definicí makra vloží znak „\“, bude načítání rozvoje makra pokračovat na dalším řádk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ToolLen(X,Y,Z)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X=X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Y=Y \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Z=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ojení prvků v rozvoji makra bez mezery – v definici se prvky oddělí znakem „|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 definice makra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LINE(AxX, AxY)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|AxX Y|Ax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LINE(10, 23.5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z preproceso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G1 X10 Y23.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pracování preprocesorem je víceprůchodové – výstup z preprocesoru je zpracováván opakovaně tak dlouho, dokud je co nahraz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$TOOLLENX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0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$TOOLLENY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$TOOLLENZ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272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$ToolLen(X,Y,Z)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X=X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Y=Y \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Z=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alší mož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i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(0, 0.9, 34.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prvního průchod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LenX=0 ToolLenY=0.9 ToolLenZ=34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druhého průchod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270=0 S271=0.9 S272=34.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efinice „proměnné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text makra „IPARAM“ a „RPARAM“ umožňuje definici celočíselných a reálných proměnný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e skutečnosti se jedná o pojmenované celočíselné a reálné pé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mplementace na úrovni preproces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a – definice „proměnné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PartCnt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PARAM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PartLe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PA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voj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tCnt =&gt; I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tLen =&gt; R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automaticky generované číslo parame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lavičkové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ndardně mají příponu N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užívají se pro definice, které mají být opakovaně použitelné z více NC program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jich vkládání provádí preprocesor a  to tak, že na odpovídající místo vloží celý text hlavičkového soub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kládání hlavičkových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mplicit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 základě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žadované hlavičkové soubory se vloží na začátek všech načítaných NC program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plicit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mocí direktivy #IN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#INL(Definitions.nch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lavní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progra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kro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Blok uložený ve zvláštním souboru (obvykle PriorityBlock.n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užívá s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centrální anulaci – program, který obsahuje jediný blok (prioritní blo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o první blok každého programu (nevykovává se, ale určuje výchozí podmínk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á určité zvláštnosti, např. v něm nesmí být programován pohyb, skok či vol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lepš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plněn preproces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šíření syntaxe oproti „ISO“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stémové param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způsoby programování pohybu (zaoblení, zkosení, tečně napojená kružnice, 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lavní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číná na začátku NCP souboru, který je určen při volbě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ončí blokem, ve kterém je programováno M02, M30 či END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íkla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 PROGRAM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G0 X0 Y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G1 X30 Y10 F100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 END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progra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e stejném souboru, jako hlavní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až za hlavním program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Sub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Sub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Sub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kro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souboru, který bude systém načítat jako soubor s makrocyk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makrocyklů lze specifikovat v konfiguraci, nebo pomocí direktiv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#MAC(MacFile.nc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Mac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Mac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Mac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souboru, který bude systém načítat jako soubor s pevnými cyk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pevných cyklů lze specifikovat v konfiguraci, nebo pomocí direktiv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#CYC(CycFile.nc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číná blokem s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egin(CycNo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79 LCycN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CycNo je číslo pod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čí blokem s End nebo G7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celky - rozdíl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zpoznávají se podle souboru, ze kterého se načítaj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 volání musím vědět, jaký programový celek chci vo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dlišné výchozí nastavení toho, co se po návratu z daného celku obnoví do původního stavu (lze změni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lok začíná adresou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loky mohou, ale nemusí být číslová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íslování je poviné pro bloky, na které má směřovat sko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íslování musí být jedinečné v rámci jednoho programového cel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vykonávání operací v blo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jprve se vykonají „parametrické operace“ (operace s parametry, funkce) v pořadí, v jakém jsou uvede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ásleduje vyhodnocení adres podle syntaxe I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 závěr se provede skok či volání (pokud je programován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 NC programech je možné použít tři pole parametrů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očíselné – pro obecné použití, práce s celými čís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álné – pro obecné použití, práce s reálnými čís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stémové – přesně definovaný význam, slouží pro čtení či nastavování hodnot používaných při zpracování NC 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očíseln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číslo parametru, např.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použít všude tam, kde může být celé číslo, např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I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hodnoty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00=4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áln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: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n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de n je číslo parametru, např.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použít všude tam, kde může být reálné číslo, např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XR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hodnoty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00=2.35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lepš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ametrické programová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žnost řízení dynamiky z NC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způsoby řešení poloměrové kore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vé prostředky pro komunikaci s PLC (PLC tabulky, sdílená paměť, 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ování v mm nebo palcí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zapisovat jako Sn, kde n je číslo parametru, tento způsob se však nepoužívá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šechny systémové parametry jsou pojmenovány pomocí maker preproces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každý systémový parametr je definován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ýzn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da je možné jej čí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da je možné jej zapis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 (celočíselný/reál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y systémových parametrů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á poloha geometrické osy 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Radiu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oloměr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ee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á rychl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eedOv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programovaný override rychl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PLC0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celočíselná hodnota pro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geometrické os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é parametry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xG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aná poloha geometrický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ápis – programování koncové míry v daném bloku (alternativa k syntaxi ISO), ve skutečnosti nastavuje interní osy, ale podle aktuálního přiřazení geometrický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Čtení – čtení programované koncové míry v daném bloku (pozor na pořadí prováděných operací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evztahuje se na ně režim absolutního / relativního programování (G90/91)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– inter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é parametry AxIn (n je index interní osy: 0..8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aná poloha interních 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ápis – programování koncové míry v daném bloku (alternativa k syntaxi IS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Čtení – čtení programované koncové míry v daném bloku (pozor na pořadí prováděných operací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evztahuje se na ně režim absolutního / relativního programování (G90/91)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orientace nástro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arametry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ool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aný jednotkový vektor orientace nástroje na konci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ři zapnuté pětiosé transforma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lternativa k syntaxi 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BevelAngle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úhel naklopení nástroje v rovině kolmé k trajektorii pohybu, alternativní způsob programování orientace ná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parametry interpol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CZ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místění středu kružnice ve směru jednotlivých os, zadané relativně vzhledem k počátečnímu bo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loměr kružn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Rev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čet otáček kružn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HLen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hLe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Délka zkos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und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oloměr zaobl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Systémové parametry – nástroj a jízda po ekvidistantě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X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LenZ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délka nástroje v jednotlivých osách (vektor délkové korek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oolRadiu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oloměr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qdOff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osunutí pro jízdu po ekvidistant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Metho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ChangeMethod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Angl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COption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Parametry pro řešení poloměrové kore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NP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orientace špičky nástroje (pro soustruh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- rychlo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F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gramovaná rychlost (obdoba adresy F podle IS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FeedOv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centuelní změna programované rychlosti oproti Feed (ovlivňuje výslednou programovanou rychlost, nesouvisí s potenciometrem „Feed Override“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otáčky vřete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pindleSp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gramované otáčky vřetene (obdoba adresy S podle IS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pindleSpeedOv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: procentuelní změna programovaných otáček vřetena oproti SpindleSpeed (ovlivňuje výsledné programované otáčky, nesouvisí s potenciometrem „Speed Override“!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překlad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2349360"/>
          <a:ext cx="8497800" cy="39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49780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dynamické řízení rychlost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louží pro nastavení způsobu a parametrů rampování, parametrů pro určení rychlosti na přechodu mezi bloky a parametrů pro určení max. rychlosti na kružn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adávané hodnoty jsou omezeny rozsahem daným konfigurac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AccelerationType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arabAcce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LinearAccel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ransitionFee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průměrové programován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eno pro soustru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DiameterProg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TRUE/FALSE – použít/nepoužít průměrové programování při absolutním reži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DiameterIncProg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: TRUE/FALSE -  použít/nepoužít průměrové programování při aditivním reži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platní se pouze při programování podle syntaxe I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je se pouze pro osy dle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LengthUni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(Metric/Imperi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rozměrů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etric = m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mperial = pal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ouze pro míry „podle výkresu“ (např. geometrické osy či parametry kružnice), ale ne pro míry dané strojem či nástroje (např. poloměr nástroje či posunutí 1 a 2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eedUnit (Metric/Imperi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rychlost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etric = mm/m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mperial = palec/m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ívá se pro zadávané rychl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– volba jednote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ngleUnit (Radians/Degrees/Grad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rčuje jednotky pro zadávání úhl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ystémové parametry - transform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mocí systémových parametrů jsou dostupné všechny prvky transformačních matic programové transformace a transformace polotovaru a prvky vektorů posunutí 1 a posunutí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stémové parametry - PL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IPLC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…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IPLC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celočíselné parametry pr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PLC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…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PLC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 reálné parametry pr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dnoty těchto parametrů se předávají d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libovolné použití, záleží na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ádějí složitější operací než jenom zápis/čtení hodno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tematické a logické funk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Řízení vykonávání programu (podmínky, skoky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Řízení transformac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áce s PLC tabulkami a sdílenou pamě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yby, upozornění, inform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čítání, odčítání, násobení, dělení, unární mínus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us, Minus, Multiply, Divide, UMinu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, lze však také běžným způsobem používat operátory „+“, „-“, „*“ a „/“, např.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AxGX=-R1+3.4*R8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=I1+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rovnání dvou hodnot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q, NEq, Less, LE, Greater, G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gické operace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ot, And, Or, Xo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Bitové operace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BNot, BAnd, BOr, BXor, Shl, Sh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evod celého čísla na reálné a obráceně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l, 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okrouhlování, celá a desetinná část čísl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ound, Trunc, Tenths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eproces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uje na úrovni textu (nemá žádné informace o významu textu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vádí textové zámě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textové vložení dalších soub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pecifikovat soubory, ze kterých se budou načítat makrocykly a pevné cy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tematické funk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solutní hodnota, druhá mocnina a odmocnina (Abs, Sqr, Sqr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Exponenciální a logaritmické (Exp, Exp2, Exp10, Log, Log2, Log1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oniometrické (Sin, Cos, Tan, ASin, ACos, ATa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epodmíněný skok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ok na blok (v rámci jednoho programového celk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ok se provede až po vykonání bloku, ve kterém je programová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100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Jmp(20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200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0 X0 Z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olání podprogramu, makrocyklu nebo pevného cyklu (Call, CallMacro, CallCyc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olání se provede až po vykonání bloku, ve kterém je programová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Call(100)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Begin(100)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stavení vlastností podprogramu, makrocyklu nebo pevného cyklu (SubOp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louží k volbě, co se má obnovit po návratu z podprogramu / makrocyklu / pevného cyklu do stavu před volání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ze obnovit: typ interpolace, pracovní rovinu, parametry korekcí, programované G a M funkce, rychlost, otáčky, transformace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Úchova celočíselných/reálných parametrů v podprogramu, makrocyklu nebo pevném cyklu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eserveI, PreserveR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olá se na začátku podprogramu, makrocyklu či pevného cykl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loží zadaný rozsah celočíselných / reálných parametrů a obnoví ho při návratu z daného programového celk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užívá se tehdy, pokud lokální výpočet nemá změnit parametry platné v době vol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Úchova parametrů – příkla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Begin(20) PreserveR(10, 15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0=AxGX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1=AxGY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2=R10+5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13=R11+5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0 YR13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2 YR13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2 YR1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G1 XR10 YR10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y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, Else, EndIf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ždy začíná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(podmínka)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kde podmínka je libovolný celočíselný výraz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nenulová hodnota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nu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ždy končí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ce z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se provedou, pokud je podmínka splněn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operace za Else se provedou pokud podmínka není splněna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je nepovinn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řízení běhu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y – příklad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(I1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=3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2=5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=-3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2=-50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známení chyby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rr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pozornění,  tři „důležitosti“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Wrn1, Wrn2, Wrn3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formace (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pracovávají se už při přípravě program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Err ukončí přípravu NC programu a zobrazí zadanou zpráv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zprávy je možné vložit parametry (celočíselné či reálné hodnot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y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rr(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říliš velká hodnota:\r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,R8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rr(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říliš mnoho opakování:\i‘,I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bez paramet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žadavek na záměnu jednoho řetězce za jin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$MACR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RO – co se má nahra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XT – čím se to má nahra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chyb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unkce Wrn1, Wrn2, Wrn3 a Info zobrazí zadanou zprávu, ale na rozdíl od funkce Err neukončí přípravu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zdíl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iný způsob zobraz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ůzná pravidla pro filtr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ůzná pravidla pro log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Funkce pro z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razov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ání zprá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obrazení zprávy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sgSho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rytí zprávy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sgHid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 zobrazení/skrytí zprávy dojde až při vykonávání programu, na začátku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vní parametr obou funkcí představuje „identifikátor“ zprávy (více zpráv zobrazených současně – každá musí mít jiný identifikátor, MsgHide s identifikátorem 0 skryje všechny zpráv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zpráv je možné vkládat paramet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zobrazování zprá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MsgShow(1,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1:\r,I1:\i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,R1,I1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Show(2,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Vrt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ání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Hide(2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MsgShow(3, ‘Z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ávitování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’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sgHide(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pro programování G a M funkc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ání G funkcí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programování M funkcí (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M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tí všude tam, kde není možné použít syntaxi ISO, zejména v podmínká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f (I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(4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rogrG(42) 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- nastavení geometrických 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mocí funkce SetGAx lze nastavit, které interní osy budou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ako geometrické osy lze nastavit pouze ty, pro které to povoluje konfigur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etGAx(0, 3, 2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X – osa 0, Y – osa 3, Z – osa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transformace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Funkce se dělí podle toho, zd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acují s programovou transformací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nebo transformací polotovaru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W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dle toho, zda nastavují transformaci absolutně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, nebo aditivně (např.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ATranslat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pro práci s transformace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Translate(x,y,z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otace okolo jednotlivých os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X(úhel)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Y(úhel)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RotateZ(úhe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měna měřítka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Scale(měřítk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rcadlení ve směru jednotlivých os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X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Mirror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čtení PLC konsta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mocí funkce GetPlcConst lze načíst hodnoty PLC konst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vá se např. při rozdělování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10=GetPlcConst(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‘OFFS_R_TIME’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ráce s PLC tabulk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počtu PLC tabulek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počtu řádků a sloupců dané tabulky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LinesCou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Cols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a změna zvoleného řádku: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GetSelLine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SetSel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jištění indexu sloupce na základě identifikátoru sloup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TGetColInde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ráce s PLC tabulkam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jištění typu pro sloupec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ColTy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z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GetI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GetRe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pis hodnoty do PLC tabulky: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SetInt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PlcTSetRe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bez parametrů - příkl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 programu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$RAPID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G0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$LIN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G01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RAPID X0 Y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LINE X30 Y2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ýstup z preprocesoru bude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G00 X0 Y0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 G01 X30 Y2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– práce se sdílenou pamět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/zápis hodnoty ze/do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Real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R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při přípravě programu (zápis změní hodnotu i v případě, že vůbec nedojde k odstartování daného bloku!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kce – práce se sdílenou pamět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/zápis hodnoty ze/do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ReadReal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lcSAWriteReal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teprve po odjetí předchozího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přímo sdílené proměn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Real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In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R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při přípravě programu, vhodné pro čtení proměnných, jejichž hodnota se v průběhu zpracování a jízdy programu nemě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unkce – 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Čtení hodnoty přímo sdílené proměn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PlcVarReal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IntW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ReadRtmVarReal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vádí se teprve po odjetí předchozího blok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Cyklus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I1 = PocetKusu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10  If ( Not(Greater(I1, 0)) 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      Jmp(2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     EndIf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ATranslate(OfsX, 0, 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CallMacro(MAC_Tvar1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I1=I1-1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    Jmp(10)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N20 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a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… Y…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 (Vpravo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AxGX = AxGX + 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AxGX = AxGX – 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X… Y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ínka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1 G9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If (Vpravo)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X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X-5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EndIf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patně! Adresy podle syntaxe ISO se vyhodnocují až na konci blok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s paramet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 makra obsahuje navíc tzv. formální paramet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ální parametry v rozvoji budou nahrazeny skutečnými parametry uvedenými při „volání“ mak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kro s parametry - příkl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íklad makra (začátek podprogramu, makrocyklu nebo pevného cyklu)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$BEGIN(SubNo)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G79 L|Sub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it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BEGIN(20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tup z preprocesoru bude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N G79 L2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6T21:37:39Z</dcterms:modified>
  <cp:revision>38</cp:revision>
  <dc:subject/>
  <dc:title>Snímek 1</dc:title>
</cp:coreProperties>
</file>