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F55-7C72-450E-A454-B231E213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18E5-DADF-4657-BDAF-E18CCF6F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6E22-D7A7-4AE0-8B9C-59D48871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8B5A-8CAC-4524-AE0F-EB0AF0B8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2C95-80C3-4B06-9392-DAA1DF65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241B-01CD-4F4F-8ACA-725907CC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C6B4-C0AF-4AC2-82D3-D2DB988F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64A7-963F-4555-9618-1C3FFD0D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BC94-F2DE-4649-BFAC-5BFF52E6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C558-2CDD-45F0-BAD8-BC86FB63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5BCC-F2B4-4269-9EA8-63D85A38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AA26-4989-457A-AC12-3FDB0998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5980-CBB8-480C-8E83-F20CEBCC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1FD5-2288-43DF-80C3-50E5EFDE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A204-18A3-4FFA-A810-32D3D6B7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F228-7B86-4C25-8E8A-0CBE50A6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06E1-1DE6-4E40-A7FA-3F0F6467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AD3-81F8-430A-91DC-EA395632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E0B2-C95A-49AA-A741-E2AEA124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B4D-2E21-4781-BA27-7683C676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E24-F0AE-4F0B-9D96-B5242E2D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4E69-FA41-4870-A30C-B4710737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BCE-C2B4-4D1E-9F33-526A52DE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4800-85F7-410C-819B-9B03AEE4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C4CE-A490-458A-8397-32CF2520774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E3D3-CB8E-4A41-8708-31DBD9C734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Tvorba PLC dialogu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29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řidání nového dialogu a úpravy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Zobrazení parametrů do graf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měny hodnoty se ihned projevuj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yužívá se JavaScrip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76360" y="2990880"/>
            <a:ext cx="698328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LC dialo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Usnadnění prá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Jednoduché zadávání parametr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nadné přizpůsobení HTM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yužití JavaScript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Základní men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Úprava dialogu Diagnostika PL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řístup ze základního men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0" y="3714840"/>
            <a:ext cx="4465800" cy="3031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405160" y="2924280"/>
            <a:ext cx="942840" cy="619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14680" y="2924280"/>
            <a:ext cx="943200" cy="619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437160" y="2924280"/>
            <a:ext cx="943200" cy="619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413160" y="321156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29160" y="3211560"/>
            <a:ext cx="93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8000" y="3743280"/>
            <a:ext cx="3816360" cy="2998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95640" y="5229360"/>
            <a:ext cx="505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agnostika vstupů a výstup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665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obrazuje aktuální stavy jednotlivých vstupů a výstup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 stisku zobrazí po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 jednotlivých bite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87280" y="4653000"/>
            <a:ext cx="4343400" cy="2057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443640" y="2781360"/>
            <a:ext cx="2438280" cy="3952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76360" y="5084640"/>
            <a:ext cx="15829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51640" y="544500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idání tlačítka do dialog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obrazení hodnoty do tlačítka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Courier New"/>
              </a:rPr>
              <a:t>…</a:t>
            </a:r>
            <a:r>
              <a:rPr b="1" lang="cs-CZ" sz="1800" spc="-1" strike="noStrike">
                <a:solidFill>
                  <a:srgbClr val="0000ff"/>
                </a:solidFill>
                <a:latin typeface="Courier New"/>
              </a:rPr>
              <a:t>DiagInputs0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Název dialogu se musí přidat do regist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&lt;BUTTON class="Button" DialogID="</a:t>
            </a:r>
            <a:r>
              <a:rPr b="1" lang="cs-CZ" sz="1800" spc="-1" strike="noStrike">
                <a:solidFill>
                  <a:srgbClr val="0000ff"/>
                </a:solidFill>
                <a:latin typeface="Courier New"/>
              </a:rPr>
              <a:t>DiagInputs0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DIV class="ValueMedium"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NCType="AsyncIndicatorPainter" AIPLibrary="StdPlugins"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Courier New"/>
              </a:rPr>
              <a:t>AIPType="InputPort"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Courier New"/>
              </a:rPr>
              <a:t>AIPOptions="Channel: 0; Port: 00; ValType: State;"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&gt;00000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&lt;/BUTTON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269040" y="3789360"/>
            <a:ext cx="2766960" cy="938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187280" y="3357720"/>
            <a:ext cx="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3357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62373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3280" y="3933720"/>
            <a:ext cx="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03280" y="393372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566100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Zobrazení nového dialog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ápis do registr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; ********** DiagInputs0 **********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WriteRegStr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HKLM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"Software\MEFI\WinCNC\Machine\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UserInterface\Dialogs\</a:t>
            </a:r>
            <a:r>
              <a:rPr b="1" lang="cs-CZ" sz="1600" spc="-1" strike="noStrike">
                <a:solidFill>
                  <a:srgbClr val="0000ff"/>
                </a:solidFill>
                <a:latin typeface="Verdana"/>
              </a:rPr>
              <a:t>DiagInputs0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"Library"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"StdPlugins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"Type"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"Html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"HtmlFile"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"DiagInputs0.html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873760" y="1628640"/>
            <a:ext cx="31528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Změna obrázku podle hodno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 příkladu je zobrazování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Log 0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Log 1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&lt;TR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&lt;TD class="ColPort"&gt;0&lt;/TD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&lt;TD class="ColDesc"&gt;Ref. spínač osy 9&lt;/TD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&lt;TD class="ColState" CNCType="AsyncIndicatorPainter" AIPLibrary="StdPlugins" AIPType="PlcVar" AIPOptions="Channel: 0; Variable: inRef9; NumberPrecision: 0; GraphType: Image; DataType: UDWord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ff"/>
                </a:solidFill>
                <a:latin typeface="Verdana"/>
              </a:rPr>
              <a:t>GraphType: Imag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ff"/>
                </a:solidFill>
                <a:latin typeface="Verdana"/>
              </a:rPr>
              <a:t>Img0: Log0.png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ff"/>
                </a:solidFill>
                <a:latin typeface="Verdana"/>
              </a:rPr>
              <a:t>Img1: Log1.png;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"&gt;0&lt;/TD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&lt;/TR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2436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659640" y="242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03640" y="256536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2565360"/>
            <a:ext cx="57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alog výstupů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obrazuje aktuální stav výstup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možňuje ovlivnit výstu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16360" y="2970360"/>
            <a:ext cx="4299120" cy="3754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4149720"/>
            <a:ext cx="742140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BUTTON class="Button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cCommand="CMD_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Inv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/BUTT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9549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elková diagnostika vstupů a výstup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09800" y="1700280"/>
            <a:ext cx="640728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06:49Z</dcterms:created>
  <dc:creator>Jiří Hoffmann</dc:creator>
  <dc:description/>
  <dc:language>en-US</dc:language>
  <cp:lastModifiedBy>Lukáš</cp:lastModifiedBy>
  <dcterms:modified xsi:type="dcterms:W3CDTF">2009-12-06T21:05:02Z</dcterms:modified>
  <cp:revision>76</cp:revision>
  <dc:subject/>
  <dc:title>Snímek 1</dc:title>
</cp:coreProperties>
</file>